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1.jpeg" ContentType="image/jpeg"/>
  <Override PartName="/ppt/media/image35.jpeg" ContentType="image/jpeg"/>
  <Override PartName="/ppt/media/image6.jpeg" ContentType="image/jpeg"/>
  <Override PartName="/ppt/media/image60.png" ContentType="image/png"/>
  <Override PartName="/ppt/media/image5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56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4.png" ContentType="image/png"/>
  <Override PartName="/ppt/media/image42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61.png" ContentType="image/png"/>
  <Override PartName="/ppt/media/image5.jpeg" ContentType="image/jpeg"/>
  <Override PartName="/ppt/media/image32.jpeg" ContentType="image/jpeg"/>
  <Override PartName="/ppt/media/image54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36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3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9.png" ContentType="image/png"/>
  <Override PartName="/ppt/media/image19.jpeg" ContentType="image/jpeg"/>
  <Override PartName="/ppt/media/image11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40.jpeg" ContentType="image/jpeg"/>
  <Override PartName="/ppt/media/image43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55.jpeg" ContentType="image/jpeg"/>
  <Override PartName="/ppt/media/image5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EDF-7ADC-4CCF-BD11-89C3B126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444-E602-49E9-92EC-B425D512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3994E-E804-4CB9-8948-751CD5E6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7A7BC-03AD-42C8-A72E-87532153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D0503-82DC-4093-9437-101167F9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632A3-3825-4B8F-B487-D700EF1B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1F8E6-3EFC-474E-8E19-E2656419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112B8-EE0A-4C09-9EF5-66E8D965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0EB3E-66DC-4A33-910C-5CBA4449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51333-EA11-4466-B0FE-E62E412C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1A43A-2E84-4A9C-9423-2E592D5BA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E62F-2A7A-42C6-ADB8-7B2AC88A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11C-BC24-4C9A-886E-B1ACF03B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50C6-EE87-4A15-9333-76602C9B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511D-BA75-4812-B7AD-20096C57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607E-C68E-4600-AB2A-A1029253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9DDA-68FE-40CB-9846-4E3FBA33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EDC8-3A99-46CE-AFCF-E92C4350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B312-7871-4E90-A630-A0569520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7089-A72E-4750-A6BF-80DEB76A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902-F512-4988-94A5-E8604074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8611-C9C6-4732-9F85-E8B53E7E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381C-5AA3-4586-BB36-372AF58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1F90-C82A-4464-A518-680BCAC1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D1CE-FD25-4EA7-8536-04CD32EE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5226-0B71-44A3-BE32-96FA135D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F1356-D9EF-4045-9A3D-8538187A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5B9E2-D947-47E6-BA22-EDAB47B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BD4F-189E-4673-A2DF-CC349BA7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A55A-0CB2-4224-AA7C-A23CA64B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FFB2-9462-4B73-A1D4-98A426A6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A8CD-F661-4F30-ADD0-032C9682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FD2D-B3CE-491B-B872-9DD666E1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20F1-4698-42A4-BF14-5C225E1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BB71-185C-499B-8DA0-B092BE0F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E6B9-1922-48A7-8FA7-EA07E3A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D30D-ED3A-4F21-A269-52DA3DA7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69F8-780D-4E91-A6CB-B4CE04C1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4CE7-B00E-4970-992B-F5845E8F0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70F52-F021-46D1-827A-DCB2AE89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7999-11ED-403F-86D0-3A25B0AC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3628A-BD31-471A-840C-DF259B1F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ED7-DE08-4A14-8101-BE736F3C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0A7F-3539-4E0D-A489-7C7D8B97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75146-9B48-42A2-837D-6962824F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2368-35AF-471C-9570-D3C3984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48C96-A76C-4434-9327-60B466D2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2AB9D-7298-42BE-A286-7A90DAA1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53CB5-092E-4A56-9A8C-36AD28A3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1177-0959-4226-816A-CCCA5681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BFA0-715B-44B8-977C-660D2C27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872FA-1B57-48F6-AF3B-4733E5EF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FD25-17A2-49CE-872C-B980C757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D58-4DAA-46F5-B224-9B3507E8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85ED-7930-4AB8-8571-A8CE5D86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CB9D2-4ED4-4371-90A2-CCA5F669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C12DE-9475-4176-AA1E-69E22793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9AD07-3E78-419D-AC68-735B2021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D206-11C4-4AC3-A523-B6B2A419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3BBB-62A2-4243-BE3B-C3DFE185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997F-7451-4E69-A138-978112D7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6D4B-D3D0-4F6B-9EAC-0957404A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BC97-FB0B-4CBB-A02A-F1403268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12ABC-86B1-477C-926C-4ACE3197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C8B-6699-4703-AA69-60FB9699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419B3-B4AE-407A-A966-317E0FAD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0491-C7D9-4C49-8D03-D32435C5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5B28-9379-43E6-9220-DB76A59E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8775-C170-4BF4-A3E2-DC97C827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1F6BF-6752-4B7D-8747-B1E95558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C0706-D93A-4F59-85E9-04968CA5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883B2-C3DB-4CBD-B1EB-A5466D59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F738B-A567-4A67-8CD2-8B51097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56AF1-930A-4956-9BC6-7BF3611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27A4-FD4F-481D-840E-1B9D7200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3A0-5EF3-47D7-B14E-3AAB39E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CA7B9-D84A-41B3-8177-C456DB17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374F-A3E2-43AC-A0C1-91059359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69C67-E070-4588-8237-321BD664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85E59-C30F-41A9-A9CE-F97DF008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4B02B-598A-407C-A998-3756A1F6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E345B-AC83-4C8F-BA5B-A0BBECE9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2236A-95AA-4224-A7B0-63E4385B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3B942-6E97-49D3-A94A-D18E5608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FD43D-73EB-4F83-B7DC-7F7ED388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0F956-3F1F-4F3D-A311-3018FD27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B5D-7BE9-4B0B-9015-898C35CF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7881B-C0D4-4726-BA1D-70BF484F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2E3A6-0DF1-479E-81C4-4B7BDA66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9DA5-23DC-451E-952B-1FB510BC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97D94-7E71-4078-A940-1EDE478A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50A2-D070-4B20-B117-38C481A5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37DD4-47B9-4A65-8985-D1EF612D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58745-0C37-4D8C-83F6-2867FCD2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E156-6997-47F0-A978-A5B3E36F9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40C85-D5CB-489E-8D91-03D9806F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6650D-AC44-4998-95F5-D238CE43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892-0357-4215-B208-F839BF8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877C-155F-47B7-BA80-E163F79B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477E3-FF7A-4947-8B65-4323C45D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C197E-B926-4084-ACF2-813B5A57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7714F-7F5E-4E15-AC72-6CC470B0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28BC1-6638-4CA6-9804-BEA51500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6DB4-9CBF-46EA-96EA-511EDFF2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4899B-0955-4AEB-8C75-5A08C466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DAB48-31B1-40CB-90AB-74453451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0C065-BB16-4464-B271-6AFF4A17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06556-1FE7-4187-AB40-DF44C0E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0DC6-BA7A-4018-8B18-774DC580DF9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8CD3-9C55-430D-855B-9ED6E67A1888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8B3F-9768-469C-B091-07F47D04693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64A0-5214-4E83-9859-067938EC551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2BDE-9D94-4DFA-9179-AB9EF80FA89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00C3-148F-4B7C-8236-5403270CAEE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325A-F795-4ED6-ADC0-E297293457D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BF54-93BD-4AD4-BBC8-24FD42A0C25B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42F3-6C49-4126-B005-F3662D0AE73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q.com.ua/img/news/2012/september/17/spec_sarg_yar.jpg" TargetMode="External"/><Relationship Id="rId3" Type="http://schemas.openxmlformats.org/officeDocument/2006/relationships/image" Target="../media/image45.jpeg"/><Relationship Id="rId4" Type="http://schemas.openxmlformats.org/officeDocument/2006/relationships/hyperlink" Target="http://www.sq.com.ua/img/news/2012/september/17/spec_zirk.jpg" TargetMode="External"/><Relationship Id="rId5" Type="http://schemas.openxmlformats.org/officeDocument/2006/relationships/image" Target="../media/image46.jpeg"/><Relationship Id="rId6" Type="http://schemas.openxmlformats.org/officeDocument/2006/relationships/hyperlink" Target="http://www.sq.com.ua/img/news/2012/september/17/spec_naberegnaya.jpg" TargetMode="External"/><Relationship Id="rId7" Type="http://schemas.openxmlformats.org/officeDocument/2006/relationships/image" Target="../media/image47.jpeg"/><Relationship Id="rId8" Type="http://schemas.openxmlformats.org/officeDocument/2006/relationships/hyperlink" Target="http://www.sq.com.ua/img/news/2012/september/17/spec_delfin.jpg" TargetMode="External"/><Relationship Id="rId9" Type="http://schemas.openxmlformats.org/officeDocument/2006/relationships/image" Target="../media/image48.jpeg"/><Relationship Id="rId10" Type="http://schemas.openxmlformats.org/officeDocument/2006/relationships/hyperlink" Target="http://www.sq.com.ua/img/news/2012/september/17/spec_park_shevch.jpg" TargetMode="External"/><Relationship Id="rId11" Type="http://schemas.openxmlformats.org/officeDocument/2006/relationships/image" Target="../media/image49.jpeg"/><Relationship Id="rId1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q.com.ua/img/news/2012/september/17/spec_feldman.jpg" TargetMode="External"/><Relationship Id="rId3" Type="http://schemas.openxmlformats.org/officeDocument/2006/relationships/image" Target="../media/image50.jpeg"/><Relationship Id="rId4" Type="http://schemas.openxmlformats.org/officeDocument/2006/relationships/hyperlink" Target="http://www.sq.com.ua/img/news/2012/september/17/spec_akvapark.jpg" TargetMode="External"/><Relationship Id="rId5" Type="http://schemas.openxmlformats.org/officeDocument/2006/relationships/image" Target="../media/image51.jpeg"/><Relationship Id="rId6" Type="http://schemas.openxmlformats.org/officeDocument/2006/relationships/hyperlink" Target="http://www.sq.com.ua/img/news/2012/september/17/spec_muzej_prirody.jpg" TargetMode="External"/><Relationship Id="rId7" Type="http://schemas.openxmlformats.org/officeDocument/2006/relationships/image" Target="../media/image52.jpeg"/><Relationship Id="rId8" Type="http://schemas.openxmlformats.org/officeDocument/2006/relationships/hyperlink" Target="http://www.sq.com.ua/img/news/2012/september/17/spec_planetarium.jpg" TargetMode="External"/><Relationship Id="rId9" Type="http://schemas.openxmlformats.org/officeDocument/2006/relationships/image" Target="../media/image53.jpeg"/><Relationship Id="rId10" Type="http://schemas.openxmlformats.org/officeDocument/2006/relationships/image" Target="../media/image54.jpe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9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361440" cy="692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00" name="Rectangle 14"/>
          <p:cNvSpPr/>
          <p:nvPr/>
        </p:nvSpPr>
        <p:spPr>
          <a:xfrm>
            <a:off x="689760" y="687240"/>
            <a:ext cx="83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Tahoma"/>
              </a:rPr>
              <a:t>Тема: «Виховання любові до рідного міст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15"/>
          <p:cNvSpPr/>
          <p:nvPr/>
        </p:nvSpPr>
        <p:spPr>
          <a:xfrm>
            <a:off x="4572000" y="38862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Комунальний заклад «Дошкільний навчальний заклад </a:t>
            </a: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(ясла-садок) №2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Arial"/>
              </a:rPr>
              <a:t>Харківської міської рад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3886200" y="3733920"/>
            <a:ext cx="1843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17"/>
          <p:cNvSpPr/>
          <p:nvPr/>
        </p:nvSpPr>
        <p:spPr>
          <a:xfrm>
            <a:off x="3581280" y="41911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18"/>
          <p:cNvSpPr/>
          <p:nvPr/>
        </p:nvSpPr>
        <p:spPr>
          <a:xfrm>
            <a:off x="4572000" y="236232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99"/>
                </a:solidFill>
                <a:latin typeface="Arial"/>
              </a:rPr>
              <a:t>Вихователь: Філімонова Людмила Григорі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3352680" y="2971800"/>
            <a:ext cx="5105520" cy="52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Picture 11" descr="C:\Documents and Settings\методист\Рабочий стол\держпром 1.jpg"/>
          <p:cNvPicPr/>
          <p:nvPr/>
        </p:nvPicPr>
        <p:blipFill>
          <a:blip r:embed="rId2"/>
          <a:stretch/>
        </p:blipFill>
        <p:spPr>
          <a:xfrm>
            <a:off x="228600" y="1905120"/>
            <a:ext cx="4272120" cy="32004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C:\Documents and Settings\методист\Рабочий стол\020920154637.jpg"/>
          <p:cNvPicPr/>
          <p:nvPr/>
        </p:nvPicPr>
        <p:blipFill>
          <a:blip r:embed="rId2"/>
          <a:stretch/>
        </p:blipFill>
        <p:spPr>
          <a:xfrm>
            <a:off x="0" y="152280"/>
            <a:ext cx="3683160" cy="27543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0" descr="C:\Documents and Settings\методист\Рабочий стол\SAM_0304.JPG"/>
          <p:cNvPicPr/>
          <p:nvPr/>
        </p:nvPicPr>
        <p:blipFill>
          <a:blip r:embed="rId3"/>
          <a:stretch/>
        </p:blipFill>
        <p:spPr>
          <a:xfrm>
            <a:off x="5562720" y="4191120"/>
            <a:ext cx="3352680" cy="2509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Documents and Settings\методист\Рабочий стол\SAM_0271.JPG"/>
          <p:cNvPicPr/>
          <p:nvPr/>
        </p:nvPicPr>
        <p:blipFill>
          <a:blip r:embed="rId4"/>
          <a:stretch/>
        </p:blipFill>
        <p:spPr>
          <a:xfrm>
            <a:off x="2739960" y="2309760"/>
            <a:ext cx="3327480" cy="249084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038480" y="763560"/>
            <a:ext cx="4876920" cy="52056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Georgia"/>
                <a:ea typeface="Times New Roman"/>
              </a:rPr>
              <a:t>«Посвята в козачат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3"/>
          <p:cNvSpPr/>
          <p:nvPr/>
        </p:nvSpPr>
        <p:spPr>
          <a:xfrm>
            <a:off x="533520" y="2286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99"/>
                </a:solidFill>
                <a:latin typeface="Georgia"/>
              </a:rPr>
              <a:t>Діти з задоволенням відвідують музей “Слов</a:t>
            </a:r>
            <a:r>
              <a:rPr b="1" lang="en-US" sz="2800" spc="-1" strike="noStrike">
                <a:solidFill>
                  <a:srgbClr val="990099"/>
                </a:solidFill>
                <a:latin typeface="Georgia"/>
              </a:rPr>
              <a:t>’</a:t>
            </a:r>
            <a:r>
              <a:rPr b="1" lang="uk-UA" sz="2800" spc="-1" strike="noStrike">
                <a:solidFill>
                  <a:srgbClr val="990099"/>
                </a:solidFill>
                <a:latin typeface="Georgia"/>
              </a:rPr>
              <a:t>янська спадщина</a:t>
            </a:r>
            <a:r>
              <a:rPr b="1" lang="uk-UA" sz="2800" spc="-1" strike="noStrike">
                <a:solidFill>
                  <a:srgbClr val="990099"/>
                </a:solidFill>
                <a:latin typeface="Tahoma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3" name="Picture 7" descr="C:\Documents and Settings\методист\Рабочий стол\DSC_0539.JPG"/>
          <p:cNvPicPr/>
          <p:nvPr/>
        </p:nvPicPr>
        <p:blipFill>
          <a:blip r:embed="rId2"/>
          <a:stretch/>
        </p:blipFill>
        <p:spPr>
          <a:xfrm>
            <a:off x="2819520" y="1981080"/>
            <a:ext cx="3108240" cy="4648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C:\Documents and Settings\методист\Рабочий стол\SAM_0414.JPG"/>
          <p:cNvPicPr/>
          <p:nvPr/>
        </p:nvPicPr>
        <p:blipFill>
          <a:blip r:embed="rId3"/>
          <a:stretch/>
        </p:blipFill>
        <p:spPr>
          <a:xfrm>
            <a:off x="6172200" y="4267080"/>
            <a:ext cx="2971800" cy="2438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4" descr="D:\все фото\музей Словянська спадщина\DSC_0557.JPG"/>
          <p:cNvPicPr/>
          <p:nvPr/>
        </p:nvPicPr>
        <p:blipFill>
          <a:blip r:embed="rId4"/>
          <a:stretch/>
        </p:blipFill>
        <p:spPr>
          <a:xfrm>
            <a:off x="152280" y="1219320"/>
            <a:ext cx="25909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5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762120" y="228960"/>
            <a:ext cx="7543800" cy="398880"/>
          </a:xfrm>
          <a:prstGeom prst="rect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Діти знайомляться з історією міста Харк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Picture 5" descr="C:\Documents and Settings\методист\Рабочий стол\Фото стенду для харкова\SAM_1654.JPG"/>
          <p:cNvPicPr/>
          <p:nvPr/>
        </p:nvPicPr>
        <p:blipFill>
          <a:blip r:embed="rId2">
            <a:lum bright="4000"/>
          </a:blip>
          <a:stretch/>
        </p:blipFill>
        <p:spPr>
          <a:xfrm>
            <a:off x="533520" y="838080"/>
            <a:ext cx="3657600" cy="23878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" descr="C:\Documents and Settings\методист\Рабочий стол\Фото стенду для харкова\SAM_1651.JPG"/>
          <p:cNvPicPr/>
          <p:nvPr/>
        </p:nvPicPr>
        <p:blipFill>
          <a:blip r:embed="rId3"/>
          <a:stretch/>
        </p:blipFill>
        <p:spPr>
          <a:xfrm>
            <a:off x="5029200" y="838080"/>
            <a:ext cx="3276720" cy="2371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методист\Рабочий стол\SAM_1636.JPG"/>
          <p:cNvPicPr/>
          <p:nvPr/>
        </p:nvPicPr>
        <p:blipFill>
          <a:blip r:embed="rId4"/>
          <a:stretch/>
        </p:blipFill>
        <p:spPr>
          <a:xfrm>
            <a:off x="2362320" y="3657600"/>
            <a:ext cx="3841560" cy="26179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7"/>
          <p:cNvSpPr/>
          <p:nvPr/>
        </p:nvSpPr>
        <p:spPr>
          <a:xfrm>
            <a:off x="762120" y="3200760"/>
            <a:ext cx="2133360" cy="337320"/>
          </a:xfrm>
          <a:prstGeom prst="rect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540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Старе місто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5410080" y="3277080"/>
            <a:ext cx="2667240" cy="33732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Харків в роки війн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2819520" y="6324840"/>
            <a:ext cx="2819160" cy="33732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6600"/>
                </a:solidFill>
                <a:latin typeface="Georgia"/>
                <a:ea typeface="Times New Roman"/>
              </a:rPr>
              <a:t>Харків сьогодні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3"/>
          <p:cNvSpPr/>
          <p:nvPr/>
        </p:nvSpPr>
        <p:spPr>
          <a:xfrm>
            <a:off x="838080" y="153720"/>
            <a:ext cx="7162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Вшанування пам</a:t>
            </a:r>
            <a:r>
              <a:rPr b="1" lang="en-US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’</a:t>
            </a:r>
            <a:r>
              <a:rPr b="1" lang="uk-UA" sz="3200" spc="-1" strike="noStrike">
                <a:solidFill>
                  <a:srgbClr val="990099"/>
                </a:solidFill>
                <a:latin typeface="Georgia"/>
                <a:ea typeface="Times New Roman"/>
              </a:rPr>
              <a:t>яті загибл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6" name="Picture 6" descr="C:\Documents and Settings\методист\Рабочий стол\SAM_4867.JPG"/>
          <p:cNvPicPr/>
          <p:nvPr/>
        </p:nvPicPr>
        <p:blipFill>
          <a:blip r:embed="rId2"/>
          <a:stretch/>
        </p:blipFill>
        <p:spPr>
          <a:xfrm>
            <a:off x="380880" y="1066680"/>
            <a:ext cx="4235400" cy="281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7" name="Picture 7" descr="C:\Documents and Settings\методист\Рабочий стол\SAM_0178.JPG"/>
          <p:cNvPicPr/>
          <p:nvPr/>
        </p:nvPicPr>
        <p:blipFill>
          <a:blip r:embed="rId3"/>
          <a:stretch/>
        </p:blipFill>
        <p:spPr>
          <a:xfrm>
            <a:off x="4572000" y="3276720"/>
            <a:ext cx="3962520" cy="318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79" name="Заголовок 1" descr=""/>
          <p:cNvPicPr/>
          <p:nvPr/>
        </p:nvPicPr>
        <p:blipFill>
          <a:blip r:embed="rId2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9"/>
          <p:cNvSpPr/>
          <p:nvPr/>
        </p:nvSpPr>
        <p:spPr>
          <a:xfrm>
            <a:off x="228600" y="1108080"/>
            <a:ext cx="426708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Організація вистав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Створення фотостендів і родинних газет про місця де вони бувають з сім</a:t>
            </a:r>
            <a:r>
              <a:rPr b="1" lang="ru-RU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’</a:t>
            </a: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є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Міні дослідженн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6600"/>
                </a:solidFill>
                <a:latin typeface="Georgia"/>
                <a:ea typeface="Times New Roman"/>
              </a:rPr>
              <a:t>Участь батьків у святах та розваг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1" name="Picture 7" descr="C:\Documents and Settings\методист\Рабочий стол\SAM_0300.JPG"/>
          <p:cNvPicPr/>
          <p:nvPr/>
        </p:nvPicPr>
        <p:blipFill>
          <a:blip r:embed="rId3"/>
          <a:stretch/>
        </p:blipFill>
        <p:spPr>
          <a:xfrm>
            <a:off x="1143000" y="3429000"/>
            <a:ext cx="4133880" cy="30942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C:\Documents and Settings\методист\Рабочий стол\SAM_6052.JPG"/>
          <p:cNvPicPr/>
          <p:nvPr/>
        </p:nvPicPr>
        <p:blipFill>
          <a:blip r:embed="rId4"/>
          <a:stretch/>
        </p:blipFill>
        <p:spPr>
          <a:xfrm>
            <a:off x="5181480" y="838080"/>
            <a:ext cx="362772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0" y="185040"/>
            <a:ext cx="8839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99"/>
                </a:solidFill>
                <a:latin typeface="Georgia"/>
                <a:ea typeface="Times New Roman"/>
              </a:rPr>
              <a:t>Рекомендації батькам «Екскурсія  містом Харковом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5" name="Рисунок 3" descr="Харьков. Город для дет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1828800"/>
            <a:ext cx="3772080" cy="251460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6" descr="Харьков. Город для детей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486400" y="533520"/>
            <a:ext cx="3276720" cy="2184120"/>
          </a:xfrm>
          <a:prstGeom prst="rect">
            <a:avLst/>
          </a:prstGeom>
          <a:ln w="0">
            <a:noFill/>
          </a:ln>
        </p:spPr>
      </p:pic>
      <p:pic>
        <p:nvPicPr>
          <p:cNvPr id="487" name="Рисунок 7" descr="Харьков. Город для дете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488" name="Рисунок 8" descr="Харьков. Город для детей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533520"/>
            <a:ext cx="3086280" cy="2057400"/>
          </a:xfrm>
          <a:prstGeom prst="rect">
            <a:avLst/>
          </a:prstGeom>
          <a:ln w="0">
            <a:noFill/>
          </a:ln>
        </p:spPr>
      </p:pic>
      <p:pic>
        <p:nvPicPr>
          <p:cNvPr id="489" name="Рисунок 10" descr="Харьков. Город для детей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334120" y="4038480"/>
            <a:ext cx="3771720" cy="25146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4"/>
          <p:cNvSpPr/>
          <p:nvPr/>
        </p:nvSpPr>
        <p:spPr>
          <a:xfrm>
            <a:off x="4458600" y="303840"/>
            <a:ext cx="226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4458600" y="303840"/>
            <a:ext cx="226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4038480" y="3962880"/>
            <a:ext cx="1371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Саржин я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21"/>
          <p:cNvSpPr/>
          <p:nvPr/>
        </p:nvSpPr>
        <p:spPr>
          <a:xfrm>
            <a:off x="457200" y="6324840"/>
            <a:ext cx="1371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Набереж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533520" y="1905480"/>
            <a:ext cx="23619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Дельфінарій «Немо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24"/>
          <p:cNvSpPr/>
          <p:nvPr/>
        </p:nvSpPr>
        <p:spPr>
          <a:xfrm>
            <a:off x="6400800" y="4115160"/>
            <a:ext cx="27432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Фонтан «Каскад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1" descr="Харьков. Город для детей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88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6" descr="Харьков. Город для детей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90920" y="205740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2" descr="Харьков. Город для детей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373392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13" descr="Харьков. Город для детей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10080" y="4572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14" descr="Харьков. Город для детей"/>
          <p:cNvPicPr/>
          <p:nvPr/>
        </p:nvPicPr>
        <p:blipFill>
          <a:blip r:embed="rId10"/>
          <a:stretch/>
        </p:blipFill>
        <p:spPr>
          <a:xfrm>
            <a:off x="5257800" y="3809880"/>
            <a:ext cx="2857680" cy="19051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"/>
          <p:cNvSpPr/>
          <p:nvPr/>
        </p:nvSpPr>
        <p:spPr>
          <a:xfrm>
            <a:off x="-228600" y="1752840"/>
            <a:ext cx="29718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«Екопарк Фельдман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914400" y="5334480"/>
            <a:ext cx="19810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Музей природ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6477120" y="2057760"/>
            <a:ext cx="16761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Планетарі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6095880" y="5410440"/>
            <a:ext cx="19814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Дворик «АВЕК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2590920" y="2057760"/>
            <a:ext cx="22096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Аквапарк «Джунглі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4" descr="Харьков. Город для детей"/>
          <p:cNvPicPr/>
          <p:nvPr/>
        </p:nvPicPr>
        <p:blipFill>
          <a:blip r:embed="rId2"/>
          <a:stretch/>
        </p:blipFill>
        <p:spPr>
          <a:xfrm rot="19718400">
            <a:off x="790200" y="844200"/>
            <a:ext cx="2089080" cy="313200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5" descr="Харьков. Город для детей"/>
          <p:cNvPicPr/>
          <p:nvPr/>
        </p:nvPicPr>
        <p:blipFill>
          <a:blip r:embed="rId3"/>
          <a:stretch/>
        </p:blipFill>
        <p:spPr>
          <a:xfrm rot="1437600">
            <a:off x="6500520" y="709560"/>
            <a:ext cx="2211480" cy="33163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19"/>
          <p:cNvSpPr/>
          <p:nvPr/>
        </p:nvSpPr>
        <p:spPr>
          <a:xfrm>
            <a:off x="380880" y="1371960"/>
            <a:ext cx="19051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Канатна доро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Rectangle 20"/>
          <p:cNvSpPr/>
          <p:nvPr/>
        </p:nvSpPr>
        <p:spPr>
          <a:xfrm>
            <a:off x="6934320" y="991080"/>
            <a:ext cx="175248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Парк Горь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2" name="Рисунок 9" descr="Харьков. Город для детей"/>
          <p:cNvPicPr/>
          <p:nvPr/>
        </p:nvPicPr>
        <p:blipFill>
          <a:blip r:embed="rId4"/>
          <a:stretch/>
        </p:blipFill>
        <p:spPr>
          <a:xfrm>
            <a:off x="228600" y="41911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23"/>
          <p:cNvSpPr/>
          <p:nvPr/>
        </p:nvSpPr>
        <p:spPr>
          <a:xfrm>
            <a:off x="228600" y="4191480"/>
            <a:ext cx="144792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Океанарі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Рисунок 15" descr="Харьков. Город для детей"/>
          <p:cNvPicPr/>
          <p:nvPr/>
        </p:nvPicPr>
        <p:blipFill>
          <a:blip r:embed="rId5"/>
          <a:stretch/>
        </p:blipFill>
        <p:spPr>
          <a:xfrm>
            <a:off x="5715000" y="4419720"/>
            <a:ext cx="3238560" cy="2158920"/>
          </a:xfrm>
          <a:prstGeom prst="rect">
            <a:avLst/>
          </a:prstGeom>
          <a:ln w="0">
            <a:noFill/>
          </a:ln>
        </p:spPr>
      </p:pic>
      <p:sp>
        <p:nvSpPr>
          <p:cNvPr id="515" name="Rectangle 4"/>
          <p:cNvSpPr/>
          <p:nvPr/>
        </p:nvSpPr>
        <p:spPr>
          <a:xfrm>
            <a:off x="5867280" y="4496040"/>
            <a:ext cx="26672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Georgia"/>
                <a:ea typeface="Times New Roman"/>
              </a:rPr>
              <a:t>Лижна база «Темп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Рисунок 2" descr="Харьков. Город для детей"/>
          <p:cNvPicPr/>
          <p:nvPr/>
        </p:nvPicPr>
        <p:blipFill>
          <a:blip r:embed="rId6"/>
          <a:stretch/>
        </p:blipFill>
        <p:spPr>
          <a:xfrm>
            <a:off x="3124080" y="2590920"/>
            <a:ext cx="3009960" cy="20066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5"/>
          <p:cNvSpPr/>
          <p:nvPr/>
        </p:nvSpPr>
        <p:spPr>
          <a:xfrm>
            <a:off x="2819520" y="534960"/>
            <a:ext cx="335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990099"/>
                </a:solidFill>
                <a:latin typeface="Georgia"/>
                <a:ea typeface="Times New Roman"/>
              </a:rPr>
              <a:t>У Харкові є багато мість для занять і розва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Заголовок 6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      </a:t>
            </a: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Планомірна систематична робота, спільні зусилля дитячого садка і сім</a:t>
            </a:r>
            <a:r>
              <a:rPr b="1" lang="en-US" sz="3200" spc="-1" strike="noStrike">
                <a:solidFill>
                  <a:srgbClr val="008000"/>
                </a:solidFill>
                <a:latin typeface="Georgia"/>
              </a:rPr>
              <a:t>’</a:t>
            </a: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ї дає позитивні результати, стає основою для подальшої роботи з дітьми в школі.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3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Заголовок 5" descr=""/>
          <p:cNvPicPr/>
          <p:nvPr/>
        </p:nvPicPr>
        <p:blipFill>
          <a:blip r:embed="rId2"/>
          <a:stretch/>
        </p:blipFill>
        <p:spPr>
          <a:xfrm>
            <a:off x="835200" y="1822320"/>
            <a:ext cx="7802280" cy="17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8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5"/>
          <p:cNvSpPr/>
          <p:nvPr/>
        </p:nvSpPr>
        <p:spPr>
          <a:xfrm>
            <a:off x="609480" y="380880"/>
            <a:ext cx="7696440" cy="114300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800080"/>
                </a:solidFill>
                <a:latin typeface="Georgia"/>
              </a:rPr>
              <a:t>Харків для мене -це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val 6"/>
          <p:cNvSpPr/>
          <p:nvPr/>
        </p:nvSpPr>
        <p:spPr>
          <a:xfrm rot="19728000">
            <a:off x="-26640" y="2385720"/>
            <a:ext cx="3322800" cy="1371600"/>
          </a:xfrm>
          <a:prstGeom prst="ellipse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7272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Гордіст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Oval 7"/>
          <p:cNvSpPr/>
          <p:nvPr/>
        </p:nvSpPr>
        <p:spPr>
          <a:xfrm rot="2950200">
            <a:off x="5751720" y="2752200"/>
            <a:ext cx="3471840" cy="1374840"/>
          </a:xfrm>
          <a:prstGeom prst="ellipse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2448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ff"/>
                </a:solidFill>
                <a:latin typeface="Arial"/>
              </a:rPr>
              <a:t>Історі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Oval 8"/>
          <p:cNvSpPr/>
          <p:nvPr/>
        </p:nvSpPr>
        <p:spPr>
          <a:xfrm rot="18692400">
            <a:off x="1150920" y="3474720"/>
            <a:ext cx="3876840" cy="1552680"/>
          </a:xfrm>
          <a:prstGeom prst="ellipse">
            <a:avLst/>
          </a:prstGeom>
          <a:gradFill rotWithShape="0">
            <a:gsLst>
              <a:gs pos="0">
                <a:srgbClr val="ffecc2"/>
              </a:gs>
              <a:gs pos="100000">
                <a:srgbClr val="ffcf2f"/>
              </a:gs>
            </a:gsLst>
            <a:lin ang="8310000"/>
          </a:gradFill>
          <a:ln w="10080">
            <a:solidFill>
              <a:srgbClr val="f9b639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Arial"/>
              </a:rPr>
              <a:t>Дитин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Oval 9"/>
          <p:cNvSpPr/>
          <p:nvPr/>
        </p:nvSpPr>
        <p:spPr>
          <a:xfrm rot="3848400">
            <a:off x="4011120" y="3518640"/>
            <a:ext cx="3956040" cy="1401840"/>
          </a:xfrm>
          <a:prstGeom prst="ellipse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1554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ff"/>
                </a:solidFill>
                <a:latin typeface="Arial"/>
              </a:rPr>
              <a:t>Моя Батьківщи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5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762120" y="1371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Georgia"/>
              </a:rPr>
              <a:t>            </a:t>
            </a:r>
            <a:r>
              <a:rPr b="1" lang="uk-UA" sz="1800" spc="-1" strike="noStrike">
                <a:solidFill>
                  <a:srgbClr val="008000"/>
                </a:solidFill>
                <a:latin typeface="Georgia"/>
              </a:rPr>
              <a:t>Сформувати у дошкільнят розуміння того, що край, де вони народилися, перші кроки їхнього життя - це їхня мала Батьківщина, частина рідної землі, а її історія -  сторінка всього українського народу.</a:t>
            </a:r>
            <a:endParaRPr b="0" lang="en-US" sz="18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16" name="Picture 7" descr="C:\Documents and Settings\методист\Рабочий стол\SAM_1648.JPG"/>
          <p:cNvPicPr/>
          <p:nvPr/>
        </p:nvPicPr>
        <p:blipFill>
          <a:blip r:embed="rId3"/>
          <a:stretch/>
        </p:blipFill>
        <p:spPr>
          <a:xfrm>
            <a:off x="1676520" y="2666880"/>
            <a:ext cx="56149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6516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560" y="129528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1" lang="uk-UA" sz="2400" spc="-1" strike="noStrike">
                <a:solidFill>
                  <a:srgbClr val="008000"/>
                </a:solidFill>
                <a:latin typeface="Georgia"/>
              </a:rPr>
              <a:t>Зародження любові до рідної землі, шанобливого ставлення до її минулого має відбуватися саме в дошкільному віці разом з формуванням у свідомості дитини перших уявлень про навколишній світ і себе в ньому</a:t>
            </a:r>
            <a:r>
              <a:rPr b="0" lang="uk-UA" sz="2400" spc="-1" strike="noStrike">
                <a:solidFill>
                  <a:srgbClr val="b13f9a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20" name="Picture 6" descr="C:\Documents and Settings\методист\Рабочий стол\SAM_0416.JPG"/>
          <p:cNvPicPr/>
          <p:nvPr/>
        </p:nvPicPr>
        <p:blipFill>
          <a:blip r:embed="rId3"/>
          <a:stretch/>
        </p:blipFill>
        <p:spPr>
          <a:xfrm>
            <a:off x="4343400" y="1828800"/>
            <a:ext cx="44798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103320" y="-648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Поглибити знання про Україну, державні символ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Надання знань про минуле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та теперішнє 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міста, історично важливі пам'ятк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Ознайомлення дітей з життям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 харків,ян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Ознайомлення дітей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видатними місцями міста Харкова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Виховання патріотизму, гор­дості за досягнення співвітчизників, шанобливого ставлення до пам'яток старовин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Формування бережливого ставлення до пам'ятників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акріплення знань про права дитини.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робити добірку матеріалу та дати рекомендації батькам щодо проведення корисного пізнавального відпочинку з дітьми в місті Харкові та на лоні живої природи Харківської області. 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  <a:ea typeface="Courier New"/>
              </a:rPr>
              <a:t>Залучати дітей та батьків до збору інформації та предметів,які відображають історію,культуру та побут населення Східного регіону України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5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Дитина знає назву країни, міста в якому живе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символіку країни, міста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назву вулиць, стадіонів, театрів, парків, які є в мі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Знає імена людей, які прославили нашу Батьківщину, імена видатних людей міста Харкова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 до історичного минулого міста Харкова і обла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до поезії, музики, художньої літератури про Батьківщину, рідне місто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Проявляє інтерес до музейних експонатів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8000"/>
                </a:solidFill>
                <a:latin typeface="Georgia"/>
              </a:rPr>
              <a:t>Отримані знання використовує в практичній діяльності.</a:t>
            </a: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b13f9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-360" y="1295280"/>
            <a:ext cx="4343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8000"/>
                </a:solidFill>
                <a:latin typeface="Georgia"/>
              </a:rPr>
              <a:t>       </a:t>
            </a:r>
            <a:r>
              <a:rPr b="1" lang="uk-UA" sz="2000" spc="-1" strike="noStrike">
                <a:solidFill>
                  <a:srgbClr val="008000"/>
                </a:solidFill>
                <a:latin typeface="Georgia"/>
              </a:rPr>
              <a:t>Я розробила тематику занять по ознайомленню дітей з містом Харковом. Заняття проводяться в формі гри, подорожей, екскурсій, пошукової діяльності. </a:t>
            </a:r>
            <a:endParaRPr b="0" lang="en-US" sz="20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30" name="Прямоугольник 4"/>
          <p:cNvSpPr/>
          <p:nvPr/>
        </p:nvSpPr>
        <p:spPr>
          <a:xfrm>
            <a:off x="1029600" y="152280"/>
            <a:ext cx="79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“</a:t>
            </a:r>
            <a:r>
              <a:rPr b="1" lang="uk-UA" sz="4000" spc="-1" strike="noStrike">
                <a:solidFill>
                  <a:srgbClr val="990099"/>
                </a:solidFill>
                <a:latin typeface="Georgia"/>
              </a:rPr>
              <a:t>Від близького до далекого”-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Picture 9" descr="C:\Documents and Settings\методист\Рабочий стол\DSC_0100.JPG"/>
          <p:cNvPicPr/>
          <p:nvPr/>
        </p:nvPicPr>
        <p:blipFill>
          <a:blip r:embed="rId3"/>
          <a:stretch/>
        </p:blipFill>
        <p:spPr>
          <a:xfrm>
            <a:off x="5159520" y="1066680"/>
            <a:ext cx="3984480" cy="2590920"/>
          </a:xfrm>
          <a:prstGeom prst="rect">
            <a:avLst/>
          </a:prstGeom>
          <a:ln w="0">
            <a:noFill/>
          </a:ln>
        </p:spPr>
      </p:pic>
      <p:sp>
        <p:nvSpPr>
          <p:cNvPr id="432" name="Выгнутая влево стрелка 9"/>
          <p:cNvSpPr/>
          <p:nvPr/>
        </p:nvSpPr>
        <p:spPr>
          <a:xfrm>
            <a:off x="4343400" y="1905120"/>
            <a:ext cx="685800" cy="2438280"/>
          </a:xfrm>
          <a:custGeom>
            <a:avLst/>
            <a:gdLst>
              <a:gd name="textAreaLeft" fmla="*/ 91800 w 685800"/>
              <a:gd name="textAreaRight" fmla="*/ 594000 w 685800"/>
              <a:gd name="textAreaTop" fmla="*/ 545040 h 2438280"/>
              <a:gd name="textAreaBottom" fmla="*/ 180720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61" stAng="-5400000" swAng="-5400000"/>
                <a:lnTo>
                  <a:pt x="0" y="11179"/>
                </a:lnTo>
                <a:arcTo wR="21600" hR="9661" stAng="10800000" swAng="-3600183"/>
                <a:lnTo>
                  <a:pt x="16200" y="21293"/>
                </a:lnTo>
                <a:lnTo>
                  <a:pt x="21600" y="20081"/>
                </a:lnTo>
                <a:lnTo>
                  <a:pt x="16200" y="18255"/>
                </a:lnTo>
                <a:lnTo>
                  <a:pt x="16200" y="19015"/>
                </a:lnTo>
                <a:arcTo wR="21600" hR="9661" stAng="7199817" swAng="3479060"/>
                <a:lnTo>
                  <a:pt x="67" y="10420"/>
                </a:lnTo>
                <a:arcTo wR="21600" hR="9661" stAng="-10678877" swAng="5278877"/>
                <a:close/>
              </a:path>
              <a:path fill="darkenLess" w="21600" h="21600">
                <a:moveTo>
                  <a:pt x="21600" y="0"/>
                </a:moveTo>
                <a:arcTo wR="21600" hR="9661" stAng="-5400000" swAng="-5400000"/>
                <a:lnTo>
                  <a:pt x="0" y="9661"/>
                </a:lnTo>
                <a:arcTo wR="21600" hR="9661" stAng="10800000" swAng="-121123"/>
                <a:lnTo>
                  <a:pt x="67" y="10420"/>
                </a:lnTo>
                <a:arcTo wR="21600" hR="9661" stAng="-10678877" swAng="5278877"/>
                <a:close/>
              </a:path>
            </a:pathLst>
          </a:custGeom>
          <a:solidFill>
            <a:srgbClr val="b83d68"/>
          </a:solidFill>
          <a:ln w="255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5715000" y="3657960"/>
            <a:ext cx="2514600" cy="337320"/>
          </a:xfrm>
          <a:prstGeom prst="rect">
            <a:avLst/>
          </a:prstGeom>
          <a:gradFill rotWithShape="0">
            <a:gsLst>
              <a:gs pos="0">
                <a:srgbClr val="f0d5f8"/>
              </a:gs>
              <a:gs pos="100000">
                <a:srgbClr val="cf6ce8"/>
              </a:gs>
            </a:gsLst>
            <a:lin ang="5400000"/>
          </a:gradFill>
          <a:ln w="10080">
            <a:solidFill>
              <a:srgbClr val="ac66bb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8000"/>
                </a:solidFill>
                <a:latin typeface="Georgia"/>
                <a:ea typeface="Times New Roman"/>
              </a:rPr>
              <a:t>Наш дитячий садо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4" name="Picture 14" descr="C:\Documents and Settings\методист\Рабочий стол\7.Ploschad_-Svobody.jpg"/>
          <p:cNvPicPr/>
          <p:nvPr/>
        </p:nvPicPr>
        <p:blipFill>
          <a:blip r:embed="rId4"/>
          <a:stretch/>
        </p:blipFill>
        <p:spPr>
          <a:xfrm>
            <a:off x="762120" y="3505320"/>
            <a:ext cx="3581280" cy="2419200"/>
          </a:xfrm>
          <a:prstGeom prst="rect">
            <a:avLst/>
          </a:prstGeom>
          <a:ln w="0">
            <a:noFill/>
          </a:ln>
        </p:spPr>
      </p:pic>
      <p:pic>
        <p:nvPicPr>
          <p:cNvPr id="435" name="Rectangle 15" descr=""/>
          <p:cNvPicPr/>
          <p:nvPr/>
        </p:nvPicPr>
        <p:blipFill>
          <a:blip r:embed="rId5"/>
          <a:stretch/>
        </p:blipFill>
        <p:spPr>
          <a:xfrm>
            <a:off x="811080" y="5950080"/>
            <a:ext cx="34624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Заголовок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699760" cy="114624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0" y="837720"/>
            <a:ext cx="3657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Прогулянки, пішохідні переходи, екскурсії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Заняття, </a:t>
            </a: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б</a:t>
            </a: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есід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южетно-рольові та дидактичні ігр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творення та розв'язання проблемних ситуацій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Читання художньої літератур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Georgia"/>
              </a:rPr>
              <a:t>Свята, розваги. 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одорожі та поїздки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Виготовлення колажів; виробів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Фотоальбомів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роведення сімейних свят та розваг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Проведення тематичних занять;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b83d68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8000"/>
                </a:solidFill>
                <a:latin typeface="Georgia"/>
              </a:rPr>
              <a:t>Читання художньої літератури.</a:t>
            </a: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b13f9a"/>
              </a:solidFill>
              <a:latin typeface="Franklin Gothic Book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3"/>
          <a:stretch/>
        </p:blipFill>
        <p:spPr>
          <a:xfrm>
            <a:off x="3505320" y="990720"/>
            <a:ext cx="266688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</p:pic>
      <p:pic>
        <p:nvPicPr>
          <p:cNvPr id="440" name="Picture 7" descr=""/>
          <p:cNvPicPr/>
          <p:nvPr/>
        </p:nvPicPr>
        <p:blipFill>
          <a:blip r:embed="rId4"/>
          <a:stretch/>
        </p:blipFill>
        <p:spPr>
          <a:xfrm>
            <a:off x="6172200" y="990720"/>
            <a:ext cx="2666880" cy="200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6e253e"/>
            </a:outerShdw>
          </a:effectLst>
        </p:spPr>
      </p:pic>
      <p:pic>
        <p:nvPicPr>
          <p:cNvPr id="441" name="Rectangle 7" descr=""/>
          <p:cNvPicPr/>
          <p:nvPr/>
        </p:nvPicPr>
        <p:blipFill>
          <a:blip r:embed="rId5"/>
          <a:stretch/>
        </p:blipFill>
        <p:spPr>
          <a:xfrm>
            <a:off x="3706920" y="2987640"/>
            <a:ext cx="4529160" cy="4939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C:\Documents and Settings\методист\Рабочий стол\SAM_6667.JPG"/>
          <p:cNvPicPr/>
          <p:nvPr/>
        </p:nvPicPr>
        <p:blipFill>
          <a:blip r:embed="rId6"/>
          <a:stretch/>
        </p:blipFill>
        <p:spPr>
          <a:xfrm>
            <a:off x="5638680" y="3505320"/>
            <a:ext cx="2990880" cy="2238120"/>
          </a:xfrm>
          <a:prstGeom prst="rect">
            <a:avLst/>
          </a:prstGeom>
          <a:ln w="0">
            <a:noFill/>
          </a:ln>
        </p:spPr>
      </p:pic>
      <p:pic>
        <p:nvPicPr>
          <p:cNvPr id="443" name="Rectangle 9" descr=""/>
          <p:cNvPicPr/>
          <p:nvPr/>
        </p:nvPicPr>
        <p:blipFill>
          <a:blip r:embed="rId7"/>
          <a:stretch/>
        </p:blipFill>
        <p:spPr>
          <a:xfrm>
            <a:off x="5462640" y="5803920"/>
            <a:ext cx="3230640" cy="500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C:\Documents and Settings\методист\Рабочий стол\SAM_4546.JPG"/>
          <p:cNvPicPr/>
          <p:nvPr/>
        </p:nvPicPr>
        <p:blipFill>
          <a:blip r:embed="rId8"/>
          <a:stretch/>
        </p:blipFill>
        <p:spPr>
          <a:xfrm>
            <a:off x="1371600" y="3809880"/>
            <a:ext cx="3549600" cy="236232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11" descr=""/>
          <p:cNvPicPr/>
          <p:nvPr/>
        </p:nvPicPr>
        <p:blipFill>
          <a:blip r:embed="rId9"/>
          <a:stretch/>
        </p:blipFill>
        <p:spPr>
          <a:xfrm>
            <a:off x="1633680" y="6181560"/>
            <a:ext cx="313992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3" descr="C:\Documents and Settings\методист\Рабочий стол\голубой.jpg"/>
          <p:cNvPicPr/>
          <p:nvPr/>
        </p:nvPicPr>
        <p:blipFill>
          <a:blip r:embed="rId1"/>
          <a:stretch/>
        </p:blipFill>
        <p:spPr>
          <a:xfrm>
            <a:off x="-130320" y="0"/>
            <a:ext cx="927432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1335960" y="15228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0099"/>
                </a:solidFill>
                <a:latin typeface="Georgia"/>
              </a:rPr>
              <a:t>Форми роботи з дітьм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8" name="Picture 2" descr="C:\Documents and Settings\методист\Рабочий стол\SAM_6387.JPG"/>
          <p:cNvPicPr/>
          <p:nvPr/>
        </p:nvPicPr>
        <p:blipFill>
          <a:blip r:embed="rId2"/>
          <a:stretch/>
        </p:blipFill>
        <p:spPr>
          <a:xfrm>
            <a:off x="457200" y="914400"/>
            <a:ext cx="2990880" cy="2238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4" descr="C:\Documents and Settings\методист\Рабочий стол\SAM_3822.JPG"/>
          <p:cNvPicPr/>
          <p:nvPr/>
        </p:nvPicPr>
        <p:blipFill>
          <a:blip r:embed="rId3"/>
          <a:stretch/>
        </p:blipFill>
        <p:spPr>
          <a:xfrm>
            <a:off x="3076560" y="243360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C:\Documents and Settings\методист\Рабочий стол\SAM_4619.JPG"/>
          <p:cNvPicPr/>
          <p:nvPr/>
        </p:nvPicPr>
        <p:blipFill>
          <a:blip r:embed="rId4"/>
          <a:stretch/>
        </p:blipFill>
        <p:spPr>
          <a:xfrm>
            <a:off x="5715000" y="4267080"/>
            <a:ext cx="2990880" cy="1990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C:\Documents and Settings\методист\Рабочий стол\SAM_6448.JPG"/>
          <p:cNvPicPr/>
          <p:nvPr/>
        </p:nvPicPr>
        <p:blipFill>
          <a:blip r:embed="rId5"/>
          <a:stretch/>
        </p:blipFill>
        <p:spPr>
          <a:xfrm>
            <a:off x="228600" y="4114800"/>
            <a:ext cx="2990880" cy="2238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7" descr="C:\Documents and Settings\методист\Рабочий стол\020920154633.jpg"/>
          <p:cNvPicPr/>
          <p:nvPr/>
        </p:nvPicPr>
        <p:blipFill>
          <a:blip r:embed="rId6"/>
          <a:stretch/>
        </p:blipFill>
        <p:spPr>
          <a:xfrm>
            <a:off x="5648400" y="838080"/>
            <a:ext cx="2852640" cy="213372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304920" y="3354480"/>
            <a:ext cx="2514600" cy="520200"/>
          </a:xfrm>
          <a:prstGeom prst="rect">
            <a:avLst/>
          </a:prstGeom>
          <a:gradFill rotWithShape="0">
            <a:gsLst>
              <a:gs pos="0">
                <a:srgbClr val="ffd3c8"/>
              </a:gs>
              <a:gs pos="100000">
                <a:srgbClr val="ff703a"/>
              </a:gs>
            </a:gsLst>
            <a:lin ang="5400000"/>
          </a:gradFill>
          <a:ln w="10080">
            <a:solidFill>
              <a:srgbClr val="de6c36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00"/>
                </a:solidFill>
                <a:latin typeface="Georgia"/>
                <a:ea typeface="Times New Roman"/>
              </a:rPr>
              <a:t>Виставка: «Харків очима дітей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4" name="Rectangle 9" descr=""/>
          <p:cNvPicPr/>
          <p:nvPr/>
        </p:nvPicPr>
        <p:blipFill>
          <a:blip r:embed="rId7"/>
          <a:stretch/>
        </p:blipFill>
        <p:spPr>
          <a:xfrm>
            <a:off x="3249720" y="4511520"/>
            <a:ext cx="2395440" cy="49392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10"/>
          <p:cNvSpPr/>
          <p:nvPr/>
        </p:nvSpPr>
        <p:spPr>
          <a:xfrm>
            <a:off x="6248520" y="3354480"/>
            <a:ext cx="2743200" cy="520200"/>
          </a:xfrm>
          <a:prstGeom prst="rect">
            <a:avLst/>
          </a:prstGeom>
          <a:gradFill rotWithShape="0">
            <a:gsLst>
              <a:gs pos="0">
                <a:srgbClr val="ffd8c2"/>
              </a:gs>
              <a:gs pos="100000">
                <a:srgbClr val="ff8e31"/>
              </a:gs>
            </a:gsLst>
            <a:lin ang="5400000"/>
          </a:gradFill>
          <a:ln w="10080">
            <a:solidFill>
              <a:srgbClr val="fa8d3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6600"/>
                </a:solidFill>
                <a:latin typeface="Georgia"/>
                <a:ea typeface="Times New Roman"/>
              </a:rPr>
              <a:t>«Українська вишивк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0:16:01Z</dcterms:created>
  <dc:creator>Александр</dc:creator>
  <dc:description/>
  <dc:language>en-US</dc:language>
  <cp:lastModifiedBy>metodist</cp:lastModifiedBy>
  <dcterms:modified xsi:type="dcterms:W3CDTF">2015-11-26T12:03:30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