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56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4.png" ContentType="image/png"/>
  <Override PartName="/ppt/media/image4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61.png" ContentType="image/png"/>
  <Override PartName="/ppt/media/image5.jpeg" ContentType="image/jpeg"/>
  <Override PartName="/ppt/media/image32.jpeg" ContentType="image/jpeg"/>
  <Override PartName="/ppt/media/image54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40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234-E5A4-48D5-9430-9F5C0CCE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71B-D619-4C95-85AE-750D3C73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1CECD-7DF9-4DF9-AD06-C86FFD5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BDE18-FE53-4B1E-A152-21F96B0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45DA2-EC5A-4B6E-8A2A-EF39991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F98A-BAF8-4AE6-842D-CB16785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538CD-FF67-4666-A171-CF95720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A1462-ABDE-47BD-B01A-B250A27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627FC-B03D-4346-BB39-9FC13E9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95EDA-D9D8-4147-8591-AE08CDC8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98882-E049-436E-ACC7-A7427C7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16C-F887-45AB-A49B-47CEAF95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6BC-02EF-4EF1-9E81-29836D0F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F59-7D86-4298-AB74-8050477B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DF1D-710B-4474-A6BE-3D79DA7B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526-305D-4D7B-A4A8-E8A57E44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1FF5-8F81-43E7-837A-71B63C6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E96A-1720-4BAB-8BD8-81264C3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B5B-75F1-432A-BD32-5521B500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ACB7-5BBF-4CE7-9F8F-3C3EC22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3EC-F326-4943-BC9A-81446909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D98-D273-492B-BE21-84B0F0F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9EE9-C040-4169-989E-512111B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3555-4CA1-4B21-8194-310EA0B8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9394-379B-4955-9B26-77C5F21F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DFE-DFCB-4902-AE4C-F6931C84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2C02-78C2-41E9-93CF-888AD9CF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EDC1-A9E5-4047-B476-D33DC9FD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DD6E-99E5-4E1A-B069-97F99111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80AA-F77A-4D60-9AFE-7F2F820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DF19-A49B-4453-B289-EFE00683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02D-6512-45C5-98C3-ABA41E6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0BC4-4296-4BA1-91FA-6C61F7B1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BC10-5AB3-46E7-AC0A-49B0149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EEE3-B0F3-4E59-A259-86D915FD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9023D-4C86-4CDA-855B-A04F478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3D31-54A2-4F96-9AF5-0ACAD740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A5FE-2CE1-448D-9CB6-D62C0BCC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1630-C66E-4DAE-A2E8-BE1702D7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005F-D52E-432B-86F0-2AD563FF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36DE-DBFC-4E4A-8DEE-F7A35D85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E8E0-65FA-431D-A24C-71414D0D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31F-69BD-4D59-8F17-B8B472A7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9D05-FDC2-41AD-A90C-220EAFFE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45C4-7E57-4457-BC08-B4C9C782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BD72-E3C1-4712-97FA-4F59F16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F06A-0DB6-4D7A-8D40-356C37A0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27FBD-F82D-48F6-893A-B2621016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A34BD-91D8-436B-B881-48851959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9D25-1455-481E-B960-DC20C04C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D1263-60B6-4E5C-89B9-44508E71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A3704-EB2C-445F-B4E3-32859DA0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548A-2E38-4E31-AEA3-CAF37509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9AC-8624-4604-BFF7-1175DE4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B2C4-5C97-44F3-BE40-07E5C76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5F71-DAA7-486B-812D-5CA02437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A5E49-90A3-4F46-A2FE-69B6BC30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A27D-B1F5-46CD-A8FE-0BE9D27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1726B-E340-4ED0-8734-3BCA41F5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48AE-51D8-46F8-A8BF-0297873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B243E-67BE-4DD5-9A19-2800BCB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9092-76DA-4E02-9EB1-7255D60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42E4-CA9D-406B-BF37-9915614D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541C-3850-4913-AE7A-83543094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DFF-F40C-4FEE-94BE-615D882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FB99-ED44-4DF3-8D5E-12BA7A4F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E156-1A5A-4CBF-A001-8A15A2C2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951C-A48E-4F0E-8056-85F512BB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5C671-E54F-4731-B517-13D0550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E613-9CED-475D-AD56-3CA57B9C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9E4C6-C32A-46B0-9DCF-280E40E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B729A-9236-47E0-B294-6D9B595D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F801-4B22-422C-A5F6-1BFA977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5C81-CD42-4089-9AC1-E067298C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C6C2-1294-438B-812C-9BED234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8D4-C529-4460-AA0F-03C6A2D1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0BB15-307E-4D44-8C3F-FABA2FBA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2470-D97A-460F-A2AD-B881B6AD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E6583-9047-4B8A-A362-4704B63D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F7C0-B0C8-4E78-8A6E-DB210DC7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DC19-4688-474C-A977-D1963B4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03BE6-D9C3-4B40-90C8-E68ACF6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4FADB-7275-4517-A484-6ACAC6D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4C6D3-9D9B-462A-A557-2C723CD7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5EA67-12B5-4081-B7F8-2AAFCB8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0D41-EA43-4B6E-91B3-FAE5E62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AE8-CF67-4D68-B7D1-2B58DAA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9EF0-0341-4C1F-839E-CACCFA3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5407-17FD-4F2A-84D2-F1E2459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0D551-3454-47D1-9AD5-8799B7E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C1EC-AD19-40C3-BE55-E7B5545E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5DE0-3E86-437B-B377-2ADA254E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C17D-DC67-49E2-A11A-87E7BAC9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D6984-8586-42C1-A433-2137002E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502D9-872C-4D76-BEC5-9D765EF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EC1BE-3416-4DF0-BC55-0A44F11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CB873-41CD-446E-968B-3B1AC9AD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BB5-78C6-4139-9BD6-199D3C5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D9F18-8A24-4EB2-99E5-FD7BBA3B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F8D95-FC47-4895-83DF-0A501DC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46441-6E8D-4901-A685-365A136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67C48-2FE4-4CDE-ACC9-C1721EB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A681-A89E-4600-AF5F-AEB0B97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4E14-4FE5-4708-9BC0-DF31B6E0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5726-7A85-47CC-984A-C952BFA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459F9-774A-455A-B65B-F729ACE3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65E4C-095B-443C-AE90-E14711C5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FCC13-A396-4839-AE95-53E07C3B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3CB1-5FFC-4F25-B813-80753D73E34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F2B-0654-4470-BE93-3511E6EB2D0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6BD9-9685-4B1D-B498-C36A4A2F0DB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9FE6-5701-4032-B377-E47F6E77D101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AD64-A359-411D-A2E5-FC1B104FB7D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2C4-73FA-481E-B52C-3825595EDD0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5CD5-ABC9-437C-9523-A23CF88AAFF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6295-D148-4317-9ECA-3C0793A1FBB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5DFE-D162-4E81-8391-A669AB0D5E4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q.com.ua/img/news/2012/september/17/spec_sarg_yar.jpg" TargetMode="External"/><Relationship Id="rId3" Type="http://schemas.openxmlformats.org/officeDocument/2006/relationships/image" Target="../media/image45.jpeg"/><Relationship Id="rId4" Type="http://schemas.openxmlformats.org/officeDocument/2006/relationships/hyperlink" Target="http://www.sq.com.ua/img/news/2012/september/17/spec_zirk.jpg" TargetMode="External"/><Relationship Id="rId5" Type="http://schemas.openxmlformats.org/officeDocument/2006/relationships/image" Target="../media/image46.jpeg"/><Relationship Id="rId6" Type="http://schemas.openxmlformats.org/officeDocument/2006/relationships/hyperlink" Target="http://www.sq.com.ua/img/news/2012/september/17/spec_naberegnaya.jpg" TargetMode="External"/><Relationship Id="rId7" Type="http://schemas.openxmlformats.org/officeDocument/2006/relationships/image" Target="../media/image47.jpeg"/><Relationship Id="rId8" Type="http://schemas.openxmlformats.org/officeDocument/2006/relationships/hyperlink" Target="http://www.sq.com.ua/img/news/2012/september/17/spec_delfin.jpg" TargetMode="External"/><Relationship Id="rId9" Type="http://schemas.openxmlformats.org/officeDocument/2006/relationships/image" Target="../media/image48.jpeg"/><Relationship Id="rId10" Type="http://schemas.openxmlformats.org/officeDocument/2006/relationships/hyperlink" Target="http://www.sq.com.ua/img/news/2012/september/17/spec_park_shevch.jpg" TargetMode="External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q.com.ua/img/news/2012/september/17/spec_feldman.jpg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www.sq.com.ua/img/news/2012/september/17/spec_akvapark.jpg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www.sq.com.ua/img/news/2012/september/17/spec_muzej_prirody.jpg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www.sq.com.ua/img/news/2012/september/17/spec_planetarium.jpg" TargetMode="External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361440" cy="692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0" name="Rectangle 14"/>
          <p:cNvSpPr/>
          <p:nvPr/>
        </p:nvSpPr>
        <p:spPr>
          <a:xfrm>
            <a:off x="689760" y="687240"/>
            <a:ext cx="83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Тема: «Виховання любові до рідного міс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4572000" y="38862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Комунальний заклад «Дошкільний навчальний заклад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(ясла-садок) №2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Харківської міської рад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886200" y="3733920"/>
            <a:ext cx="18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3581280" y="4191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4572000" y="2362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Arial"/>
              </a:rPr>
              <a:t>Вихователь: Філімонова Людмила Григорі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352680" y="2971800"/>
            <a:ext cx="5105520" cy="52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1" descr="C:\Documents and Settings\методист\Рабочий стол\держпром 1.jpg"/>
          <p:cNvPicPr/>
          <p:nvPr/>
        </p:nvPicPr>
        <p:blipFill>
          <a:blip r:embed="rId2"/>
          <a:stretch/>
        </p:blipFill>
        <p:spPr>
          <a:xfrm>
            <a:off x="228600" y="1905120"/>
            <a:ext cx="427212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C:\Documents and Settings\методист\Рабочий стол\020920154637.jpg"/>
          <p:cNvPicPr/>
          <p:nvPr/>
        </p:nvPicPr>
        <p:blipFill>
          <a:blip r:embed="rId2"/>
          <a:stretch/>
        </p:blipFill>
        <p:spPr>
          <a:xfrm>
            <a:off x="0" y="152280"/>
            <a:ext cx="3683160" cy="2754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0" descr="C:\Documents and Settings\методист\Рабочий стол\SAM_0304.JPG"/>
          <p:cNvPicPr/>
          <p:nvPr/>
        </p:nvPicPr>
        <p:blipFill>
          <a:blip r:embed="rId3"/>
          <a:stretch/>
        </p:blipFill>
        <p:spPr>
          <a:xfrm>
            <a:off x="5562720" y="4191120"/>
            <a:ext cx="3352680" cy="2509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методист\Рабочий стол\SAM_0271.JPG"/>
          <p:cNvPicPr/>
          <p:nvPr/>
        </p:nvPicPr>
        <p:blipFill>
          <a:blip r:embed="rId4"/>
          <a:stretch/>
        </p:blipFill>
        <p:spPr>
          <a:xfrm>
            <a:off x="2739960" y="2309760"/>
            <a:ext cx="3327480" cy="24908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038480" y="763560"/>
            <a:ext cx="4876920" cy="52056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Georgia"/>
                <a:ea typeface="Times New Roman"/>
              </a:rPr>
              <a:t>«Посвята в козача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3"/>
          <p:cNvSpPr/>
          <p:nvPr/>
        </p:nvSpPr>
        <p:spPr>
          <a:xfrm>
            <a:off x="53352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Georgia"/>
              </a:rPr>
              <a:t>Діти з задоволенням відвідують музей “Слов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’</a:t>
            </a:r>
            <a:r>
              <a:rPr b="1" lang="uk-UA" sz="2800" spc="-1" strike="noStrike">
                <a:solidFill>
                  <a:srgbClr val="990099"/>
                </a:solidFill>
                <a:latin typeface="Georgia"/>
              </a:rPr>
              <a:t>янська спадщина</a:t>
            </a:r>
            <a:r>
              <a:rPr b="1" lang="uk-UA" sz="2800" spc="-1" strike="noStrike">
                <a:solidFill>
                  <a:srgbClr val="990099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7" descr="C:\Documents and Settings\методист\Рабочий стол\DSC_0539.JPG"/>
          <p:cNvPicPr/>
          <p:nvPr/>
        </p:nvPicPr>
        <p:blipFill>
          <a:blip r:embed="rId2"/>
          <a:stretch/>
        </p:blipFill>
        <p:spPr>
          <a:xfrm>
            <a:off x="2819520" y="1981080"/>
            <a:ext cx="3108240" cy="4648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Documents and Settings\методист\Рабочий стол\SAM_0414.JPG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D:\все фото\музей Словянська спадщина\DSC_0557.JPG"/>
          <p:cNvPicPr/>
          <p:nvPr/>
        </p:nvPicPr>
        <p:blipFill>
          <a:blip r:embed="rId4"/>
          <a:stretch/>
        </p:blipFill>
        <p:spPr>
          <a:xfrm>
            <a:off x="152280" y="1219320"/>
            <a:ext cx="25909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762120" y="228960"/>
            <a:ext cx="7543800" cy="398880"/>
          </a:xfrm>
          <a:prstGeom prst="rect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Діти знайомляться з історією міста Харк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5" descr="C:\Documents and Settings\методист\Рабочий стол\Фото стенду для харкова\SAM_1654.JPG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533520" y="838080"/>
            <a:ext cx="3657600" cy="2387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Documents and Settings\методист\Рабочий стол\Фото стенду для харкова\SAM_1651.JPG"/>
          <p:cNvPicPr/>
          <p:nvPr/>
        </p:nvPicPr>
        <p:blipFill>
          <a:blip r:embed="rId3"/>
          <a:stretch/>
        </p:blipFill>
        <p:spPr>
          <a:xfrm>
            <a:off x="5029200" y="838080"/>
            <a:ext cx="3276720" cy="2371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методист\Рабочий стол\SAM_1636.JPG"/>
          <p:cNvPicPr/>
          <p:nvPr/>
        </p:nvPicPr>
        <p:blipFill>
          <a:blip r:embed="rId4"/>
          <a:stretch/>
        </p:blipFill>
        <p:spPr>
          <a:xfrm>
            <a:off x="2362320" y="3657600"/>
            <a:ext cx="3841560" cy="26179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7"/>
          <p:cNvSpPr/>
          <p:nvPr/>
        </p:nvSpPr>
        <p:spPr>
          <a:xfrm>
            <a:off x="762120" y="3200760"/>
            <a:ext cx="2133360" cy="33732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Старе міст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410080" y="3277080"/>
            <a:ext cx="2667240" cy="33732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Харків в роки війн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2819520" y="6324840"/>
            <a:ext cx="2819160" cy="33732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Харків сьогодні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38080" y="153720"/>
            <a:ext cx="7162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Вшанування пам</a:t>
            </a:r>
            <a:r>
              <a:rPr b="1" lang="en-US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яті загибл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6" descr="C:\Documents and Settings\методист\Рабочий стол\SAM_4867.JPG"/>
          <p:cNvPicPr/>
          <p:nvPr/>
        </p:nvPicPr>
        <p:blipFill>
          <a:blip r:embed="rId2"/>
          <a:stretch/>
        </p:blipFill>
        <p:spPr>
          <a:xfrm>
            <a:off x="380880" y="1066680"/>
            <a:ext cx="423540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7" name="Picture 7" descr="C:\Documents and Settings\методист\Рабочий стол\SAM_0178.JPG"/>
          <p:cNvPicPr/>
          <p:nvPr/>
        </p:nvPicPr>
        <p:blipFill>
          <a:blip r:embed="rId3"/>
          <a:stretch/>
        </p:blipFill>
        <p:spPr>
          <a:xfrm>
            <a:off x="4572000" y="3276720"/>
            <a:ext cx="3962520" cy="31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79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9"/>
          <p:cNvSpPr/>
          <p:nvPr/>
        </p:nvSpPr>
        <p:spPr>
          <a:xfrm>
            <a:off x="228600" y="1108080"/>
            <a:ext cx="426708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Організація вистав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Створення фотостендів і родинних газет про місця де вони бувають з сім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є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Міні дослідженн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Участь батьків у святах та розваг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7" descr="C:\Documents and Settings\методист\Рабочий стол\SAM_0300.JPG"/>
          <p:cNvPicPr/>
          <p:nvPr/>
        </p:nvPicPr>
        <p:blipFill>
          <a:blip r:embed="rId3"/>
          <a:stretch/>
        </p:blipFill>
        <p:spPr>
          <a:xfrm>
            <a:off x="1143000" y="3429000"/>
            <a:ext cx="4133880" cy="3094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C:\Documents and Settings\методист\Рабочий стол\SAM_6052.JPG"/>
          <p:cNvPicPr/>
          <p:nvPr/>
        </p:nvPicPr>
        <p:blipFill>
          <a:blip r:embed="rId4"/>
          <a:stretch/>
        </p:blipFill>
        <p:spPr>
          <a:xfrm>
            <a:off x="5181480" y="838080"/>
            <a:ext cx="36277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0" y="185040"/>
            <a:ext cx="883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99"/>
                </a:solidFill>
                <a:latin typeface="Georgia"/>
                <a:ea typeface="Times New Roman"/>
              </a:rPr>
              <a:t>Рекомендації батькам «Екскурсія  містом Харковом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Рисунок 3" descr="Харьков. Город для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828800"/>
            <a:ext cx="3772080" cy="25146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6" descr="Харьков. Город для дете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5335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7" descr="Харьков. Город для дете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8" descr="Харьков. Город для детей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3352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0" descr="Харьков. Город для детей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403848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4"/>
          <p:cNvSpPr/>
          <p:nvPr/>
        </p:nvSpPr>
        <p:spPr>
          <a:xfrm>
            <a:off x="4458600" y="303840"/>
            <a:ext cx="226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4458600" y="303840"/>
            <a:ext cx="226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4038480" y="396288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Саржин я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457200" y="632484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Набереж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533520" y="1905480"/>
            <a:ext cx="23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Дельфінарій «Немо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6400800" y="411516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Фонтан «Каскад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1" descr="Харьков. Город для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6" descr="Харьков. Город для дете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20574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2" descr="Харьков. Город для дете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7339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13" descr="Харьков. Город для детей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10080" y="457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14" descr="Харьков. Город для детей"/>
          <p:cNvPicPr/>
          <p:nvPr/>
        </p:nvPicPr>
        <p:blipFill>
          <a:blip r:embed="rId10"/>
          <a:stretch/>
        </p:blipFill>
        <p:spPr>
          <a:xfrm>
            <a:off x="5257800" y="3809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"/>
          <p:cNvSpPr/>
          <p:nvPr/>
        </p:nvSpPr>
        <p:spPr>
          <a:xfrm>
            <a:off x="-228600" y="1752840"/>
            <a:ext cx="2971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«Екопарк Фельдман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914400" y="5334480"/>
            <a:ext cx="1981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Музей природ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6477120" y="2057760"/>
            <a:ext cx="1676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Планетарі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095880" y="5410440"/>
            <a:ext cx="198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Дворик «АВЕК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2590920" y="2057760"/>
            <a:ext cx="2209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Аквапарк «Джунглі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4" descr="Харьков. Город для детей"/>
          <p:cNvPicPr/>
          <p:nvPr/>
        </p:nvPicPr>
        <p:blipFill>
          <a:blip r:embed="rId2"/>
          <a:stretch/>
        </p:blipFill>
        <p:spPr>
          <a:xfrm rot="19718400">
            <a:off x="790200" y="844200"/>
            <a:ext cx="2089080" cy="313200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5" descr="Харьков. Город для детей"/>
          <p:cNvPicPr/>
          <p:nvPr/>
        </p:nvPicPr>
        <p:blipFill>
          <a:blip r:embed="rId3"/>
          <a:stretch/>
        </p:blipFill>
        <p:spPr>
          <a:xfrm rot="1437600">
            <a:off x="6500520" y="709560"/>
            <a:ext cx="2211480" cy="3316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9"/>
          <p:cNvSpPr/>
          <p:nvPr/>
        </p:nvSpPr>
        <p:spPr>
          <a:xfrm>
            <a:off x="380880" y="1371960"/>
            <a:ext cx="19051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Канатна доро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6934320" y="991080"/>
            <a:ext cx="17524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Парк Горь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Рисунок 9" descr="Харьков. Город для детей"/>
          <p:cNvPicPr/>
          <p:nvPr/>
        </p:nvPicPr>
        <p:blipFill>
          <a:blip r:embed="rId4"/>
          <a:stretch/>
        </p:blipFill>
        <p:spPr>
          <a:xfrm>
            <a:off x="228600" y="41911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3"/>
          <p:cNvSpPr/>
          <p:nvPr/>
        </p:nvSpPr>
        <p:spPr>
          <a:xfrm>
            <a:off x="228600" y="4191480"/>
            <a:ext cx="1447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Океанарі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Рисунок 15" descr="Харьков. Город для детей"/>
          <p:cNvPicPr/>
          <p:nvPr/>
        </p:nvPicPr>
        <p:blipFill>
          <a:blip r:embed="rId5"/>
          <a:stretch/>
        </p:blipFill>
        <p:spPr>
          <a:xfrm>
            <a:off x="5715000" y="4419720"/>
            <a:ext cx="3238560" cy="21589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5867280" y="4496040"/>
            <a:ext cx="2667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Лижна база «Темп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Рисунок 2" descr="Харьков. Город для детей"/>
          <p:cNvPicPr/>
          <p:nvPr/>
        </p:nvPicPr>
        <p:blipFill>
          <a:blip r:embed="rId6"/>
          <a:stretch/>
        </p:blipFill>
        <p:spPr>
          <a:xfrm>
            <a:off x="3124080" y="2590920"/>
            <a:ext cx="3009960" cy="2006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2819520" y="53496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99"/>
                </a:solidFill>
                <a:latin typeface="Georgia"/>
                <a:ea typeface="Times New Roman"/>
              </a:rPr>
              <a:t>У Харкові є багато мість для занять і розва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Заголовок 6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      </a:t>
            </a: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Планомірна систематична робота, спільні зусилля дитячого садка і сім</a:t>
            </a:r>
            <a:r>
              <a:rPr b="1" lang="en-US" sz="3200" spc="-1" strike="noStrike">
                <a:solidFill>
                  <a:srgbClr val="008000"/>
                </a:solidFill>
                <a:latin typeface="Georgia"/>
              </a:rPr>
              <a:t>’</a:t>
            </a: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ї дає позитивні результати, стає основою для подальшої роботи з дітьми в школі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Заголовок 5" descr=""/>
          <p:cNvPicPr/>
          <p:nvPr/>
        </p:nvPicPr>
        <p:blipFill>
          <a:blip r:embed="rId2"/>
          <a:stretch/>
        </p:blipFill>
        <p:spPr>
          <a:xfrm>
            <a:off x="835200" y="1822320"/>
            <a:ext cx="7802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8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5"/>
          <p:cNvSpPr/>
          <p:nvPr/>
        </p:nvSpPr>
        <p:spPr>
          <a:xfrm>
            <a:off x="609480" y="380880"/>
            <a:ext cx="7696440" cy="1143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Georgia"/>
              </a:rPr>
              <a:t>Харків для мене -ц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val 6"/>
          <p:cNvSpPr/>
          <p:nvPr/>
        </p:nvSpPr>
        <p:spPr>
          <a:xfrm rot="19728000">
            <a:off x="-26640" y="2385720"/>
            <a:ext cx="3322800" cy="1371600"/>
          </a:xfrm>
          <a:prstGeom prst="ellipse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7272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Горді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7"/>
          <p:cNvSpPr/>
          <p:nvPr/>
        </p:nvSpPr>
        <p:spPr>
          <a:xfrm rot="2950200">
            <a:off x="5751720" y="2752200"/>
            <a:ext cx="3471840" cy="1374840"/>
          </a:xfrm>
          <a:prstGeom prst="ellipse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2448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Історі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8"/>
          <p:cNvSpPr/>
          <p:nvPr/>
        </p:nvSpPr>
        <p:spPr>
          <a:xfrm rot="18692400">
            <a:off x="1150920" y="3474720"/>
            <a:ext cx="3876840" cy="1552680"/>
          </a:xfrm>
          <a:prstGeom prst="ellipse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831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Дити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Oval 9"/>
          <p:cNvSpPr/>
          <p:nvPr/>
        </p:nvSpPr>
        <p:spPr>
          <a:xfrm rot="3848400">
            <a:off x="4011120" y="3518640"/>
            <a:ext cx="3956040" cy="1401840"/>
          </a:xfrm>
          <a:prstGeom prst="ellipse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1554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оя Батьківщ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62120" y="1371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Georgia"/>
              </a:rPr>
              <a:t>            </a:t>
            </a:r>
            <a:r>
              <a:rPr b="1" lang="uk-UA" sz="1800" spc="-1" strike="noStrike">
                <a:solidFill>
                  <a:srgbClr val="008000"/>
                </a:solidFill>
                <a:latin typeface="Georgia"/>
              </a:rPr>
              <a:t>Сформувати у дошкільнят розуміння того, що край, де вони народилися, перші кроки їхнього життя - це їхня мала Батьківщина, частина рідної землі, а її історія -  сторінка всього українського народу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6" name="Picture 7" descr="C:\Documents and Settings\методист\Рабочий стол\SAM_1648.JPG"/>
          <p:cNvPicPr/>
          <p:nvPr/>
        </p:nvPicPr>
        <p:blipFill>
          <a:blip r:embed="rId3"/>
          <a:stretch/>
        </p:blipFill>
        <p:spPr>
          <a:xfrm>
            <a:off x="1676520" y="2666880"/>
            <a:ext cx="56149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295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1" lang="uk-UA" sz="2400" spc="-1" strike="noStrike">
                <a:solidFill>
                  <a:srgbClr val="008000"/>
                </a:solidFill>
                <a:latin typeface="Georgia"/>
              </a:rPr>
              <a:t>Зародження любові до рідної землі, шанобливого ставлення до її минулого має відбуватися саме в дошкільному віці разом з формуванням у свідомості дитини перших уявлень про навколишній світ і себе в ньому</a:t>
            </a:r>
            <a:r>
              <a:rPr b="0" lang="uk-UA" sz="2400" spc="-1" strike="noStrike">
                <a:solidFill>
                  <a:srgbClr val="b13f9a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0" name="Picture 6" descr="C:\Documents and Settings\методист\Рабочий стол\SAM_0416.JPG"/>
          <p:cNvPicPr/>
          <p:nvPr/>
        </p:nvPicPr>
        <p:blipFill>
          <a:blip r:embed="rId3"/>
          <a:stretch/>
        </p:blipFill>
        <p:spPr>
          <a:xfrm>
            <a:off x="4343400" y="1828800"/>
            <a:ext cx="4479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103320" y="-648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Поглибити знання про Україну, державні символ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Надання знань про минуле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та теперішнє 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міста, історично важливі пам'ятк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Ознайомлення дітей з життям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 харків,ян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Ознайомлення дітей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видатними місцями міста Харкова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Виховання патріотизму, гор­дості за досягнення співвітчизників, шанобливого ставлення до пам'яток старовин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Формування бережливого ставлення до пам'ятників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акріплення знань про права дитин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робити добірку матеріалу та дати рекомендації батькам щодо проведення корисного пізнавального відпочинку з дітьми в місті Харкові та на лоні живої природи Харківської області.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алучати дітей та батьків до збору інформації та предметів,які відображають історію,культуру та побут населення Східного регіону Україн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Дитина знає назву країни, міста в якому живе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символіку країни, міста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назву вулиць, стадіонів, театрів, парків, які є в мі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імена людей, які прославили нашу Батьківщину, імена видатних людей міста Харкова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 до історичного минулого міста Харкова і обла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до поезії, музики, художньої літератури про Батьківщину, рідне місто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до музейних експонатів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Отримані знання використовує в практичній діяльно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-360" y="12952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8000"/>
                </a:solidFill>
                <a:latin typeface="Georgia"/>
              </a:rPr>
              <a:t>      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</a:rPr>
              <a:t>Я розробила тематику занять по ознайомленню дітей з містом Харковом. Заняття проводяться в формі гри, подорожей, екскурсій, пошукової діяльності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1029600" y="152280"/>
            <a:ext cx="79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“</a:t>
            </a: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Від близького до далекого”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9" descr="C:\Documents and Settings\методист\Рабочий стол\DSC_0100.JPG"/>
          <p:cNvPicPr/>
          <p:nvPr/>
        </p:nvPicPr>
        <p:blipFill>
          <a:blip r:embed="rId3"/>
          <a:stretch/>
        </p:blipFill>
        <p:spPr>
          <a:xfrm>
            <a:off x="5159520" y="1066680"/>
            <a:ext cx="3984480" cy="2590920"/>
          </a:xfrm>
          <a:prstGeom prst="rect">
            <a:avLst/>
          </a:prstGeom>
          <a:ln w="0">
            <a:noFill/>
          </a:ln>
        </p:spPr>
      </p:pic>
      <p:sp>
        <p:nvSpPr>
          <p:cNvPr id="432" name="Выгнутая влево стрелка 9"/>
          <p:cNvSpPr/>
          <p:nvPr/>
        </p:nvSpPr>
        <p:spPr>
          <a:xfrm>
            <a:off x="4343400" y="1905120"/>
            <a:ext cx="685800" cy="2438280"/>
          </a:xfrm>
          <a:custGeom>
            <a:avLst/>
            <a:gdLst>
              <a:gd name="textAreaLeft" fmla="*/ 91800 w 685800"/>
              <a:gd name="textAreaRight" fmla="*/ 594000 w 685800"/>
              <a:gd name="textAreaTop" fmla="*/ 545040 h 2438280"/>
              <a:gd name="textAreaBottom" fmla="*/ 180720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61" stAng="-5400000" swAng="-5400000"/>
                <a:lnTo>
                  <a:pt x="0" y="11179"/>
                </a:lnTo>
                <a:arcTo wR="21600" hR="9661" stAng="10800000" swAng="-3600183"/>
                <a:lnTo>
                  <a:pt x="16200" y="21293"/>
                </a:lnTo>
                <a:lnTo>
                  <a:pt x="21600" y="20081"/>
                </a:lnTo>
                <a:lnTo>
                  <a:pt x="16200" y="18255"/>
                </a:lnTo>
                <a:lnTo>
                  <a:pt x="16200" y="19015"/>
                </a:lnTo>
                <a:arcTo wR="21600" hR="9661" stAng="7199817" swAng="3479060"/>
                <a:lnTo>
                  <a:pt x="67" y="10420"/>
                </a:lnTo>
                <a:arcTo wR="21600" hR="9661" stAng="-10678877" swAng="5278877"/>
                <a:close/>
              </a:path>
              <a:path fill="darkenLess" w="21600" h="21600">
                <a:moveTo>
                  <a:pt x="21600" y="0"/>
                </a:moveTo>
                <a:arcTo wR="21600" hR="9661" stAng="-5400000" swAng="-5400000"/>
                <a:lnTo>
                  <a:pt x="0" y="9661"/>
                </a:lnTo>
                <a:arcTo wR="21600" hR="9661" stAng="10800000" swAng="-121123"/>
                <a:lnTo>
                  <a:pt x="67" y="10420"/>
                </a:lnTo>
                <a:arcTo wR="21600" hR="9661" stAng="-10678877" swAng="5278877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715000" y="3657960"/>
            <a:ext cx="2514600" cy="337320"/>
          </a:xfrm>
          <a:prstGeom prst="rect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Georgia"/>
                <a:ea typeface="Times New Roman"/>
              </a:rPr>
              <a:t>Наш дитячий садо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14" descr="C:\Documents and Settings\методист\Рабочий стол\7.Ploschad_-Svobody.jpg"/>
          <p:cNvPicPr/>
          <p:nvPr/>
        </p:nvPicPr>
        <p:blipFill>
          <a:blip r:embed="rId4"/>
          <a:stretch/>
        </p:blipFill>
        <p:spPr>
          <a:xfrm>
            <a:off x="762120" y="350532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435" name="Rectangle 15" descr=""/>
          <p:cNvPicPr/>
          <p:nvPr/>
        </p:nvPicPr>
        <p:blipFill>
          <a:blip r:embed="rId5"/>
          <a:stretch/>
        </p:blipFill>
        <p:spPr>
          <a:xfrm>
            <a:off x="811080" y="5950080"/>
            <a:ext cx="3462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699760" cy="11462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0" y="83772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Прогулянки, пішохідні переходи, екскурсії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Заняття, </a:t>
            </a: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б</a:t>
            </a: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есід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южетно-рольові та дидактичні ігр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творення та розв'язання проблемних ситуацій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Читання художньої літератур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вята, розваг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одорожі та поїздки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Виготовлення колажів; виробів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Фотоальбомів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роведення сімейних свят та розваг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роведення тематичних занять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Читання художньої літератури.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3"/>
          <a:stretch/>
        </p:blipFill>
        <p:spPr>
          <a:xfrm>
            <a:off x="3505320" y="990720"/>
            <a:ext cx="2666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</p:pic>
      <p:pic>
        <p:nvPicPr>
          <p:cNvPr id="440" name="Picture 7" descr=""/>
          <p:cNvPicPr/>
          <p:nvPr/>
        </p:nvPicPr>
        <p:blipFill>
          <a:blip r:embed="rId4"/>
          <a:stretch/>
        </p:blipFill>
        <p:spPr>
          <a:xfrm>
            <a:off x="6172200" y="990720"/>
            <a:ext cx="2666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</p:pic>
      <p:pic>
        <p:nvPicPr>
          <p:cNvPr id="441" name="Rectangle 7" descr=""/>
          <p:cNvPicPr/>
          <p:nvPr/>
        </p:nvPicPr>
        <p:blipFill>
          <a:blip r:embed="rId5"/>
          <a:stretch/>
        </p:blipFill>
        <p:spPr>
          <a:xfrm>
            <a:off x="3706920" y="2987640"/>
            <a:ext cx="4529160" cy="493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C:\Documents and Settings\методист\Рабочий стол\SAM_6667.JPG"/>
          <p:cNvPicPr/>
          <p:nvPr/>
        </p:nvPicPr>
        <p:blipFill>
          <a:blip r:embed="rId6"/>
          <a:stretch/>
        </p:blipFill>
        <p:spPr>
          <a:xfrm>
            <a:off x="5638680" y="350532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443" name="Rectangle 9" descr=""/>
          <p:cNvPicPr/>
          <p:nvPr/>
        </p:nvPicPr>
        <p:blipFill>
          <a:blip r:embed="rId7"/>
          <a:stretch/>
        </p:blipFill>
        <p:spPr>
          <a:xfrm>
            <a:off x="5462640" y="5803920"/>
            <a:ext cx="3230640" cy="500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C:\Documents and Settings\методист\Рабочий стол\SAM_4546.JPG"/>
          <p:cNvPicPr/>
          <p:nvPr/>
        </p:nvPicPr>
        <p:blipFill>
          <a:blip r:embed="rId8"/>
          <a:stretch/>
        </p:blipFill>
        <p:spPr>
          <a:xfrm>
            <a:off x="1371600" y="3809880"/>
            <a:ext cx="3549600" cy="236232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1" descr=""/>
          <p:cNvPicPr/>
          <p:nvPr/>
        </p:nvPicPr>
        <p:blipFill>
          <a:blip r:embed="rId9"/>
          <a:stretch/>
        </p:blipFill>
        <p:spPr>
          <a:xfrm>
            <a:off x="1633680" y="6181560"/>
            <a:ext cx="313992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1335960" y="1522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Georgia"/>
              </a:rPr>
              <a:t>Форми роботи з діть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Picture 2" descr="C:\Documents and Settings\методист\Рабочий стол\SAM_6387.JPG"/>
          <p:cNvPicPr/>
          <p:nvPr/>
        </p:nvPicPr>
        <p:blipFill>
          <a:blip r:embed="rId2"/>
          <a:stretch/>
        </p:blipFill>
        <p:spPr>
          <a:xfrm>
            <a:off x="457200" y="914400"/>
            <a:ext cx="2990880" cy="2238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C:\Documents and Settings\методист\Рабочий стол\SAM_3822.JPG"/>
          <p:cNvPicPr/>
          <p:nvPr/>
        </p:nvPicPr>
        <p:blipFill>
          <a:blip r:embed="rId3"/>
          <a:stretch/>
        </p:blipFill>
        <p:spPr>
          <a:xfrm>
            <a:off x="3076560" y="243360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Documents and Settings\методист\Рабочий стол\SAM_4619.JPG"/>
          <p:cNvPicPr/>
          <p:nvPr/>
        </p:nvPicPr>
        <p:blipFill>
          <a:blip r:embed="rId4"/>
          <a:stretch/>
        </p:blipFill>
        <p:spPr>
          <a:xfrm>
            <a:off x="5715000" y="426708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C:\Documents and Settings\методист\Рабочий стол\SAM_6448.JPG"/>
          <p:cNvPicPr/>
          <p:nvPr/>
        </p:nvPicPr>
        <p:blipFill>
          <a:blip r:embed="rId5"/>
          <a:stretch/>
        </p:blipFill>
        <p:spPr>
          <a:xfrm>
            <a:off x="228600" y="4114800"/>
            <a:ext cx="2990880" cy="2238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C:\Documents and Settings\методист\Рабочий стол\020920154633.jpg"/>
          <p:cNvPicPr/>
          <p:nvPr/>
        </p:nvPicPr>
        <p:blipFill>
          <a:blip r:embed="rId6"/>
          <a:stretch/>
        </p:blipFill>
        <p:spPr>
          <a:xfrm>
            <a:off x="5648400" y="838080"/>
            <a:ext cx="2852640" cy="2133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304920" y="3354480"/>
            <a:ext cx="2514600" cy="520200"/>
          </a:xfrm>
          <a:prstGeom prst="rect">
            <a:avLst/>
          </a:prstGeom>
          <a:gradFill rotWithShape="0">
            <a:gsLst>
              <a:gs pos="0">
                <a:srgbClr val="ffd3c8"/>
              </a:gs>
              <a:gs pos="100000">
                <a:srgbClr val="ff703a"/>
              </a:gs>
            </a:gsLst>
            <a:lin ang="5400000"/>
          </a:gradFill>
          <a:ln w="10080">
            <a:solidFill>
              <a:srgbClr val="de6c3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00"/>
                </a:solidFill>
                <a:latin typeface="Georgia"/>
                <a:ea typeface="Times New Roman"/>
              </a:rPr>
              <a:t>Виставка: «Харків очима дітей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Rectangle 9" descr=""/>
          <p:cNvPicPr/>
          <p:nvPr/>
        </p:nvPicPr>
        <p:blipFill>
          <a:blip r:embed="rId7"/>
          <a:stretch/>
        </p:blipFill>
        <p:spPr>
          <a:xfrm>
            <a:off x="3249720" y="4511520"/>
            <a:ext cx="2395440" cy="49392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0"/>
          <p:cNvSpPr/>
          <p:nvPr/>
        </p:nvSpPr>
        <p:spPr>
          <a:xfrm>
            <a:off x="6248520" y="3354480"/>
            <a:ext cx="2743200" cy="52020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00"/>
                </a:solidFill>
                <a:latin typeface="Georgia"/>
                <a:ea typeface="Times New Roman"/>
              </a:rPr>
              <a:t>«Українська вишивк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0:16:01Z</dcterms:created>
  <dc:creator>Александр</dc:creator>
  <dc:description/>
  <dc:language>en-US</dc:language>
  <cp:lastModifiedBy>metodist</cp:lastModifiedBy>
  <dcterms:modified xsi:type="dcterms:W3CDTF">2015-11-26T12:03:3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