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55E3-A8FB-426D-B5CF-B65EEC9F198F}" type="slidenum">
              <a:rPr b="1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E493-8300-4084-BB42-EE322A2E536E}" type="slidenum">
              <a:rPr b="1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D80-B207-4017-ABDB-2EDB391C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7F9-B200-4859-B3B3-0D082291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071-346E-4F95-A7AE-32735B04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282-CFAF-4306-AE04-ADFB7A90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3B4-2236-443E-BE43-5C83BC0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93B-45B8-44E5-A6E2-41A3A737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590-0A5F-4DA2-82E5-B05F883D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CCF-5268-4B7E-BE7F-DAFF96D4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217-D95B-46DA-92D1-AB08329A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0B1-832F-4DA0-AB20-B651E0A5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142-7AB2-486F-8B3F-0E67E98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405-3EB8-480B-81D3-17E5259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8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F3E0-03E1-4475-8E45-6ECC44DA006B}" type="slidenum">
              <a:rPr b="0" lang="ru-RU" sz="14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289548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1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90720" y="31240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4920" y="-304920"/>
            <a:ext cx="8381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66"/>
                </a:solidFill>
                <a:latin typeface="Georgia"/>
              </a:rPr>
              <a:t>Народна пісенна творчість у вихованні національної свідомості дошкільників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2" name="Picture 13" descr="Авторська програма"/>
          <p:cNvPicPr/>
          <p:nvPr/>
        </p:nvPicPr>
        <p:blipFill>
          <a:blip r:embed="rId1"/>
          <a:stretch/>
        </p:blipFill>
        <p:spPr>
          <a:xfrm>
            <a:off x="609480" y="2209680"/>
            <a:ext cx="2909880" cy="4319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8"/>
          <p:cNvSpPr/>
          <p:nvPr/>
        </p:nvSpPr>
        <p:spPr>
          <a:xfrm>
            <a:off x="3809880" y="2743200"/>
            <a:ext cx="4343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Парціальна програма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Методичні рекомендації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Календарно-тематичний план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Розробки занять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Сценарії свят та розваг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звивальне середовище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65" name="Picture 4" descr="SAM_8424"/>
          <p:cNvPicPr/>
          <p:nvPr/>
        </p:nvPicPr>
        <p:blipFill>
          <a:blip r:embed="rId1"/>
          <a:stretch/>
        </p:blipFill>
        <p:spPr>
          <a:xfrm>
            <a:off x="228600" y="1676520"/>
            <a:ext cx="2997360" cy="1685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6" name="Picture 5" descr="SAM_8448"/>
          <p:cNvPicPr/>
          <p:nvPr/>
        </p:nvPicPr>
        <p:blipFill>
          <a:blip r:embed="rId2"/>
          <a:stretch/>
        </p:blipFill>
        <p:spPr>
          <a:xfrm>
            <a:off x="152280" y="4114800"/>
            <a:ext cx="2971800" cy="1671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7" name="Picture 6" descr="DSC_0530"/>
          <p:cNvPicPr/>
          <p:nvPr/>
        </p:nvPicPr>
        <p:blipFill>
          <a:blip r:embed="rId3"/>
          <a:stretch/>
        </p:blipFill>
        <p:spPr>
          <a:xfrm>
            <a:off x="6248520" y="1143000"/>
            <a:ext cx="2666880" cy="17812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8" name="Picture 7" descr="DSC_0533"/>
          <p:cNvPicPr/>
          <p:nvPr/>
        </p:nvPicPr>
        <p:blipFill>
          <a:blip r:embed="rId4"/>
          <a:stretch/>
        </p:blipFill>
        <p:spPr>
          <a:xfrm>
            <a:off x="6858000" y="3276720"/>
            <a:ext cx="2066760" cy="30956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9" name="Picture 8" descr="DSC_0535"/>
          <p:cNvPicPr/>
          <p:nvPr/>
        </p:nvPicPr>
        <p:blipFill>
          <a:blip r:embed="rId5"/>
          <a:stretch/>
        </p:blipFill>
        <p:spPr>
          <a:xfrm>
            <a:off x="3657600" y="990720"/>
            <a:ext cx="2200320" cy="3295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70" name="Picture 9" descr="DSC_0544"/>
          <p:cNvPicPr/>
          <p:nvPr/>
        </p:nvPicPr>
        <p:blipFill>
          <a:blip r:embed="rId6"/>
          <a:stretch/>
        </p:blipFill>
        <p:spPr>
          <a:xfrm>
            <a:off x="3352680" y="4495680"/>
            <a:ext cx="3257640" cy="2171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7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uk-UA" sz="44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Georgia"/>
              </a:rPr>
              <a:t>	</a:t>
            </a:r>
            <a:r>
              <a:rPr b="0" lang="uk-UA" sz="2200" spc="-1" strike="noStrike">
                <a:solidFill>
                  <a:srgbClr val="ffff66"/>
                </a:solidFill>
                <a:latin typeface="Georgia"/>
              </a:rPr>
              <a:t>Мета.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 Виявлення рівня виховання національної свідомості дошкільників через народну пісенну творчість.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сновні критерії виявлення рівня виховання національної свідомості дошкільників через народну пісенну творчість: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виховання у дошкільнят позитивного ставлення до народного музичного мистецтва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знайомлення дошкільників з народною музичною творчістю України, сприяння вивченню рідної мови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розвиток творчих здібностей, емоційної, інтелектуальної сфер особистості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набуття досвіду творчої співпраці з дітьми та дорослими в музично-театралізованих розвагах та святах.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endParaRPr b="1" lang="en-US" sz="41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91440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Динаміка  рівнів виховання національної свідомості дошкільників використовуючи народну музичну творчість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76" name="Группа 10"/>
          <p:cNvGrpSpPr/>
          <p:nvPr/>
        </p:nvGrpSpPr>
        <p:grpSpPr>
          <a:xfrm>
            <a:off x="838080" y="2438280"/>
            <a:ext cx="7467840" cy="3429000"/>
            <a:chOff x="838080" y="2438280"/>
            <a:chExt cx="7467840" cy="3429000"/>
          </a:xfrm>
        </p:grpSpPr>
        <p:pic>
          <p:nvPicPr>
            <p:cNvPr id="177" name="Диаграмма 8" descr=""/>
            <p:cNvPicPr/>
            <p:nvPr/>
          </p:nvPicPr>
          <p:blipFill>
            <a:blip r:embed="rId1"/>
            <a:stretch/>
          </p:blipFill>
          <p:spPr>
            <a:xfrm>
              <a:off x="838080" y="2438280"/>
              <a:ext cx="746784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5"/>
            <p:cNvSpPr/>
            <p:nvPr/>
          </p:nvSpPr>
          <p:spPr>
            <a:xfrm>
              <a:off x="871560" y="2824200"/>
              <a:ext cx="609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4</a:t>
              </a:r>
              <a:endParaRPr b="1" lang="en-US" sz="14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9" name="TextBox 6"/>
            <p:cNvSpPr/>
            <p:nvPr/>
          </p:nvSpPr>
          <p:spPr>
            <a:xfrm>
              <a:off x="856080" y="3629880"/>
              <a:ext cx="609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5</a:t>
              </a:r>
              <a:endParaRPr b="1" lang="en-US" sz="14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0" name="TextBox 7"/>
            <p:cNvSpPr/>
            <p:nvPr/>
          </p:nvSpPr>
          <p:spPr>
            <a:xfrm>
              <a:off x="856080" y="4428000"/>
              <a:ext cx="609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6</a:t>
              </a:r>
              <a:endParaRPr b="1" lang="en-US" sz="14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526760" y="153720"/>
            <a:ext cx="56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  <a:ea typeface="Times New Roman"/>
              </a:rPr>
              <a:t>2016/2017 навчальний рік</a:t>
            </a:r>
            <a:endParaRPr b="1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82" name="Объект 1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696080" cy="2361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0" y="329796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Вересень 2016 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Низький рівень -  5 дитини  - 18%   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ередній рівень -  15 дітей   -  54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Достатній рівень -  8 дітей  -  29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Високий рівень -   0 дітей  -   0%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419720" y="351144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ічень 2017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Низький рівень</a:t>
            </a: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  -  2 дитини  - 7%   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ередній рівень -  16 дітей   -  57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Достатній рівень  – 8 дітей  -  29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Високий рівень  -  2 дітей  -   7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5337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У порівнянні з вереснем 2016 року дітей з низьким рівнем стало на 11 % менше, якщо на початку навчального року не було з високим рівнем, то в грудні місяці їх кількість склала 7%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Висновки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68120" y="6750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Georgia"/>
                <a:ea typeface="Arial"/>
              </a:rPr>
              <a:t>Народна пісенна творчість сприяє формуванню національної свідомості дошкільнят, розвитку творчого самовираження, вихованню моральних та етичних цінностей.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7848720" y="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89" name="Рисунок 6" descr="C:\Documents and Settings\методист\Рабочий стол\Робота Грабаревої\Оля печатать\SAM_8960.JPG"/>
          <p:cNvPicPr/>
          <p:nvPr/>
        </p:nvPicPr>
        <p:blipFill>
          <a:blip r:embed="rId1"/>
          <a:stretch/>
        </p:blipFill>
        <p:spPr>
          <a:xfrm>
            <a:off x="533520" y="2133720"/>
            <a:ext cx="3659040" cy="24429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90" name="Рисунок 1" descr="C:\Documents and Settings\методист\Рабочий стол\SAM_1112.JPG"/>
          <p:cNvPicPr/>
          <p:nvPr/>
        </p:nvPicPr>
        <p:blipFill>
          <a:blip r:embed="rId2"/>
          <a:stretch/>
        </p:blipFill>
        <p:spPr>
          <a:xfrm>
            <a:off x="2743200" y="4191120"/>
            <a:ext cx="3200400" cy="2543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91" name="Рисунок 4" descr="C:\Documents and Settings\методист\Рабочий стол\SAM_0014.JPG"/>
          <p:cNvPicPr/>
          <p:nvPr/>
        </p:nvPicPr>
        <p:blipFill>
          <a:blip r:embed="rId3"/>
          <a:stretch/>
        </p:blipFill>
        <p:spPr>
          <a:xfrm>
            <a:off x="5181480" y="2133720"/>
            <a:ext cx="3559320" cy="2671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Мета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Виховання у дітей дошкільного віку ціннісного ставлення та почуття приналежності до українських мистецьких традицій, формування моральних переконань і чеснот на матеріалі національних звичаїв, народної пісенної творчості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6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7" name="Picture 11" descr="Бандура"/>
          <p:cNvPicPr/>
          <p:nvPr/>
        </p:nvPicPr>
        <p:blipFill>
          <a:blip r:embed="rId1"/>
          <a:stretch/>
        </p:blipFill>
        <p:spPr>
          <a:xfrm>
            <a:off x="4952880" y="2438280"/>
            <a:ext cx="390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Завдання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ити аналіз психолого-педагогічної літератури з проблеми щодо виховання національної свідомості дошкільників через народну пісен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безпечити організацію навчально-виховного процесу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оформити розвивальне середовище в ДНЗ для ознайомлення дошкільнят з народною музичною творчістю України (музей «Слов’янська спадщина», міні-музеї в групах, національні осередки)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ібрати та систематизувати інформаційний та музичний матеріали за темою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визначити критерії та рівні щодо виховання національної свідомості дошкільників через народну музичну творчість;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ювати моніторинг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провадити програму «Народна пісенна творчість у вихованні національної свідомості дошкільників».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5899320"/>
            <a:ext cx="41148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2397240"/>
            <a:ext cx="41148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52280" y="3249720"/>
            <a:ext cx="4114800" cy="7142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4022640"/>
            <a:ext cx="41148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419720" y="4022640"/>
            <a:ext cx="45720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419720" y="3247920"/>
            <a:ext cx="4572000" cy="714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419720" y="2401920"/>
            <a:ext cx="45720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419720" y="4894200"/>
            <a:ext cx="45720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52280" y="4894200"/>
            <a:ext cx="41148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19720" y="5899320"/>
            <a:ext cx="45720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молод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33520" y="5916600"/>
            <a:ext cx="335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48320" y="3349800"/>
            <a:ext cx="426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розрізняти настрій і темп в музиці; відтворювати образні рух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3505320"/>
            <a:ext cx="335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0" y="405432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дити хоровод, виконувати образні та парні танці, рольові дії в грі-драматизаці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4920" y="4924440"/>
            <a:ext cx="365760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а, бубон, брязкальце, дзвіночок, барабан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24280" y="4927680"/>
            <a:ext cx="40388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ідтворювати найпростіші ритмічні рисунки на дитячих музичних інструмента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952880" y="5954760"/>
            <a:ext cx="3733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ідбирати елементи національного одягу відповідно стат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04920" y="2443320"/>
            <a:ext cx="3657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648320" y="2401920"/>
            <a:ext cx="43434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півати нескладні народні пісні, виконувати їх виразно та музикальн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4267080"/>
            <a:ext cx="3352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152280" y="1600200"/>
            <a:ext cx="41148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4419720" y="1604880"/>
            <a:ext cx="45720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AutoShape 44"/>
          <p:cNvSpPr/>
          <p:nvPr/>
        </p:nvSpPr>
        <p:spPr>
          <a:xfrm>
            <a:off x="4038480" y="175104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1739880"/>
            <a:ext cx="3657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48320" y="1604880"/>
            <a:ext cx="4343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відгукуватися на музичні твори, орієнтуватися в загальному характері мелодії, настро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2" name="AutoShape 44"/>
          <p:cNvSpPr/>
          <p:nvPr/>
        </p:nvSpPr>
        <p:spPr>
          <a:xfrm>
            <a:off x="4038480" y="25909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4038480" y="33526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AutoShape 44"/>
          <p:cNvSpPr/>
          <p:nvPr/>
        </p:nvSpPr>
        <p:spPr>
          <a:xfrm>
            <a:off x="4038480" y="4191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AutoShape 44"/>
          <p:cNvSpPr/>
          <p:nvPr/>
        </p:nvSpPr>
        <p:spPr>
          <a:xfrm>
            <a:off x="4038480" y="51055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6" name="AutoShape 44"/>
          <p:cNvSpPr/>
          <p:nvPr/>
        </p:nvSpPr>
        <p:spPr>
          <a:xfrm>
            <a:off x="4038480" y="6095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52280" y="4594320"/>
            <a:ext cx="4114800" cy="503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52280" y="2149560"/>
            <a:ext cx="41148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419720" y="2166840"/>
            <a:ext cx="45720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419720" y="5156280"/>
            <a:ext cx="45720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52280" y="5156280"/>
            <a:ext cx="41148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419720" y="4606920"/>
            <a:ext cx="4572000" cy="485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стар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52280" y="4611600"/>
            <a:ext cx="3962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, таночк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28600" y="5189400"/>
            <a:ext cx="3809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и, бубни, брязкальця, дзвіночки, трищітки тощ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724280" y="5245200"/>
            <a:ext cx="41148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роявляти музичні та акторські здібності в інсценізації дитячих пісень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648320" y="4662360"/>
            <a:ext cx="426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наслідувати дорослого в творчому самовираженн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28600" y="2201760"/>
            <a:ext cx="3809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648320" y="2166840"/>
            <a:ext cx="43434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користуватися дитячими музичними інструментам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52280" y="3711600"/>
            <a:ext cx="41148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4419720" y="3724200"/>
            <a:ext cx="45720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0" y="3745080"/>
            <a:ext cx="4343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уявляти відповідні музичні образи та характер виконуваного фольклорного тв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8600" y="3795840"/>
            <a:ext cx="3809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Rectangle 42"/>
          <p:cNvSpPr/>
          <p:nvPr/>
        </p:nvSpPr>
        <p:spPr>
          <a:xfrm>
            <a:off x="4419720" y="6006960"/>
            <a:ext cx="45720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Rectangle 43"/>
          <p:cNvSpPr/>
          <p:nvPr/>
        </p:nvSpPr>
        <p:spPr>
          <a:xfrm>
            <a:off x="152280" y="6006960"/>
            <a:ext cx="41148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28600" y="60148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дівочого та парубочого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876920" y="6095880"/>
            <a:ext cx="3962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амостійно одягти усі елементи українського вбрання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152280" y="2932200"/>
            <a:ext cx="4114800" cy="725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Rectangle 48"/>
          <p:cNvSpPr/>
          <p:nvPr/>
        </p:nvSpPr>
        <p:spPr>
          <a:xfrm>
            <a:off x="4419720" y="2949480"/>
            <a:ext cx="4572000" cy="725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28600" y="2978280"/>
            <a:ext cx="3733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, жартівливих народних пісень-забав</a:t>
            </a:r>
            <a:r>
              <a:rPr b="1" lang="uk-UA" sz="1400" spc="-1" strike="noStrike">
                <a:solidFill>
                  <a:srgbClr val="460000"/>
                </a:solidFill>
                <a:latin typeface="Bookman Old Styl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495680" y="2949480"/>
            <a:ext cx="44960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лодіти координацією рухів при співі, під час виконання танцюваль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152280" y="1620720"/>
            <a:ext cx="4114800" cy="46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4419720" y="1620720"/>
            <a:ext cx="4572000" cy="486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AutoShape 54"/>
          <p:cNvSpPr/>
          <p:nvPr/>
        </p:nvSpPr>
        <p:spPr>
          <a:xfrm>
            <a:off x="4038480" y="162576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52280" y="1600200"/>
            <a:ext cx="3962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що таке фольклор, види дитячого музичного фолькл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4648320" y="1676520"/>
            <a:ext cx="426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сприймати, розуміти і виконувати фольклорний матеріал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AutoShape 54"/>
          <p:cNvSpPr/>
          <p:nvPr/>
        </p:nvSpPr>
        <p:spPr>
          <a:xfrm>
            <a:off x="4038480" y="22860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3" name="AutoShape 54"/>
          <p:cNvSpPr/>
          <p:nvPr/>
        </p:nvSpPr>
        <p:spPr>
          <a:xfrm>
            <a:off x="4038480" y="3048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4" name="AutoShape 54"/>
          <p:cNvSpPr/>
          <p:nvPr/>
        </p:nvSpPr>
        <p:spPr>
          <a:xfrm>
            <a:off x="4038480" y="3886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AutoShape 54"/>
          <p:cNvSpPr/>
          <p:nvPr/>
        </p:nvSpPr>
        <p:spPr>
          <a:xfrm>
            <a:off x="4038480" y="4648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6" name="AutoShape 54"/>
          <p:cNvSpPr/>
          <p:nvPr/>
        </p:nvSpPr>
        <p:spPr>
          <a:xfrm>
            <a:off x="4038480" y="5334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AutoShape 54"/>
          <p:cNvSpPr/>
          <p:nvPr/>
        </p:nvSpPr>
        <p:spPr>
          <a:xfrm>
            <a:off x="4038480" y="6172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бота з педагогічним колективом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39" name="Picture 2" descr="SAM_6879"/>
          <p:cNvPicPr/>
          <p:nvPr/>
        </p:nvPicPr>
        <p:blipFill>
          <a:blip r:embed="rId1"/>
          <a:stretch/>
        </p:blipFill>
        <p:spPr>
          <a:xfrm>
            <a:off x="5486400" y="1066680"/>
            <a:ext cx="3174840" cy="2386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0" name="Picture 5" descr="SAM_2854"/>
          <p:cNvPicPr/>
          <p:nvPr/>
        </p:nvPicPr>
        <p:blipFill>
          <a:blip r:embed="rId2"/>
          <a:stretch/>
        </p:blipFill>
        <p:spPr>
          <a:xfrm>
            <a:off x="762120" y="4267080"/>
            <a:ext cx="2361960" cy="235440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1" name="Рисунок 9" descr="F:\DCIM\100PHOTO\Грабарева\SAM_8966.JPG"/>
          <p:cNvPicPr/>
          <p:nvPr/>
        </p:nvPicPr>
        <p:blipFill>
          <a:blip r:embed="rId3"/>
          <a:stretch/>
        </p:blipFill>
        <p:spPr>
          <a:xfrm>
            <a:off x="2895480" y="3200400"/>
            <a:ext cx="311652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2" name="Рисунок 4" descr="C:\Documents and Settings\методист\Рабочий стол\все фото\Шевченко\SAM_3604.JPG"/>
          <p:cNvPicPr/>
          <p:nvPr/>
        </p:nvPicPr>
        <p:blipFill>
          <a:blip r:embed="rId4"/>
          <a:srcRect l="26093" t="8702" r="0" b="0"/>
          <a:stretch/>
        </p:blipFill>
        <p:spPr>
          <a:xfrm>
            <a:off x="304920" y="1066680"/>
            <a:ext cx="2914560" cy="2400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4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44" name="Picture 4" descr="SAM_3224"/>
          <p:cNvPicPr/>
          <p:nvPr/>
        </p:nvPicPr>
        <p:blipFill>
          <a:blip r:embed="rId5"/>
          <a:stretch/>
        </p:blipFill>
        <p:spPr>
          <a:xfrm>
            <a:off x="5943600" y="4648320"/>
            <a:ext cx="2987640" cy="19922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46" name="Рисунок 7" descr="C:\Documents and Settings\методист\Рабочий стол\Робота Грабаревої\Оля печатать\SAM_8978.JPG"/>
          <p:cNvPicPr/>
          <p:nvPr/>
        </p:nvPicPr>
        <p:blipFill>
          <a:blip r:embed="rId1"/>
          <a:stretch/>
        </p:blipFill>
        <p:spPr>
          <a:xfrm>
            <a:off x="457200" y="1523880"/>
            <a:ext cx="289548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7" name="Рисунок 8" descr="C:\Documents and Settings\методист\Рабочий стол\Робота Грабаревої\Оля печатать\SAM_8994.JPG"/>
          <p:cNvPicPr/>
          <p:nvPr/>
        </p:nvPicPr>
        <p:blipFill>
          <a:blip r:embed="rId2"/>
          <a:stretch/>
        </p:blipFill>
        <p:spPr>
          <a:xfrm>
            <a:off x="5105520" y="4419720"/>
            <a:ext cx="3792240" cy="21333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8" name="Picture 5" descr="SAM_7536"/>
          <p:cNvPicPr/>
          <p:nvPr/>
        </p:nvPicPr>
        <p:blipFill>
          <a:blip r:embed="rId3"/>
          <a:srcRect l="0" t="0" r="19519" b="0"/>
          <a:stretch/>
        </p:blipFill>
        <p:spPr>
          <a:xfrm>
            <a:off x="380880" y="4572000"/>
            <a:ext cx="2795760" cy="1960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9" name="Picture 6" descr="SAM_7703"/>
          <p:cNvPicPr/>
          <p:nvPr/>
        </p:nvPicPr>
        <p:blipFill>
          <a:blip r:embed="rId4"/>
          <a:srcRect l="7643" t="0" r="12181" b="0"/>
          <a:stretch/>
        </p:blipFill>
        <p:spPr>
          <a:xfrm>
            <a:off x="5334120" y="1447920"/>
            <a:ext cx="3544920" cy="2489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0" name="Рисунок 9" descr="C:\Documents and Settings\методист\Рабочий стол\все фото\1 вересня фото\SAM_6127.JPG"/>
          <p:cNvPicPr/>
          <p:nvPr/>
        </p:nvPicPr>
        <p:blipFill>
          <a:blip r:embed="rId5"/>
          <a:stretch/>
        </p:blipFill>
        <p:spPr>
          <a:xfrm>
            <a:off x="2895480" y="3048120"/>
            <a:ext cx="2698920" cy="20239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3" name="Picture 8" descr="SAM_688222"/>
          <p:cNvPicPr/>
          <p:nvPr/>
        </p:nvPicPr>
        <p:blipFill>
          <a:blip r:embed="rId1"/>
          <a:srcRect l="18605" t="0" r="0" b="16433"/>
          <a:stretch/>
        </p:blipFill>
        <p:spPr>
          <a:xfrm>
            <a:off x="5334120" y="1422360"/>
            <a:ext cx="3200400" cy="24638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4" name="Picture 7" descr="SAM_3266"/>
          <p:cNvPicPr/>
          <p:nvPr/>
        </p:nvPicPr>
        <p:blipFill>
          <a:blip r:embed="rId2"/>
          <a:stretch/>
        </p:blipFill>
        <p:spPr>
          <a:xfrm>
            <a:off x="685800" y="1447920"/>
            <a:ext cx="3581280" cy="2387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5" name="Рисунок 3" descr="C:\Documents and Settings\методист\Рабочий стол\SAM_0022.JPG"/>
          <p:cNvPicPr/>
          <p:nvPr/>
        </p:nvPicPr>
        <p:blipFill>
          <a:blip r:embed="rId3"/>
          <a:stretch/>
        </p:blipFill>
        <p:spPr>
          <a:xfrm>
            <a:off x="685800" y="4191120"/>
            <a:ext cx="3200400" cy="2400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6" name="Рисунок 6" descr="C:\Documents and Settings\методист\Рабочий стол\SAM_4526.JPG"/>
          <p:cNvPicPr/>
          <p:nvPr/>
        </p:nvPicPr>
        <p:blipFill>
          <a:blip r:embed="rId4"/>
          <a:stretch/>
        </p:blipFill>
        <p:spPr>
          <a:xfrm>
            <a:off x="4876920" y="4149720"/>
            <a:ext cx="3720960" cy="24796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Робота з батьками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9" name="Рисунок 3" descr="C:\Documents and Settings\методист\Рабочий стол\все фото\1 вересня фото\SAM_6145.JPG"/>
          <p:cNvPicPr/>
          <p:nvPr/>
        </p:nvPicPr>
        <p:blipFill>
          <a:blip r:embed="rId1"/>
          <a:stretch/>
        </p:blipFill>
        <p:spPr>
          <a:xfrm>
            <a:off x="609480" y="4267080"/>
            <a:ext cx="281952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0" name="Рисунок 4" descr="C:\Documents and Settings\методист\Рабочий стол\все фото\1 вересня фото\SAM_6142.JPG"/>
          <p:cNvPicPr/>
          <p:nvPr/>
        </p:nvPicPr>
        <p:blipFill>
          <a:blip r:embed="rId2"/>
          <a:stretch/>
        </p:blipFill>
        <p:spPr>
          <a:xfrm>
            <a:off x="5562720" y="1447920"/>
            <a:ext cx="2895480" cy="2171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1" name="Рисунок 6" descr="C:\Documents and Settings\методист\Рабочий стол\news_1425755575_.JPG"/>
          <p:cNvPicPr/>
          <p:nvPr/>
        </p:nvPicPr>
        <p:blipFill>
          <a:blip r:embed="rId3"/>
          <a:stretch/>
        </p:blipFill>
        <p:spPr>
          <a:xfrm>
            <a:off x="1676520" y="1523880"/>
            <a:ext cx="327636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2" name="Рисунок 7" descr="C:\Documents and Settings\методист\Рабочий стол\sam_9261.jpg"/>
          <p:cNvPicPr/>
          <p:nvPr/>
        </p:nvPicPr>
        <p:blipFill>
          <a:blip r:embed="rId4"/>
          <a:stretch/>
        </p:blipFill>
        <p:spPr>
          <a:xfrm>
            <a:off x="4267080" y="4343400"/>
            <a:ext cx="3048120" cy="1981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6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ndra</dc:creator>
  <dc:description/>
  <dc:language>en-US</dc:language>
  <cp:lastModifiedBy>metodist</cp:lastModifiedBy>
  <dcterms:modified xsi:type="dcterms:W3CDTF">2017-02-02T13:24:18Z</dcterms:modified>
  <cp:revision>2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