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jpeg" ContentType="image/jpeg"/>
  <Override PartName="/ppt/media/image5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Bookman Old Style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BD00-3180-4938-84A8-6E4420DE978B}" type="slidenum">
              <a:rPr b="1" lang="ru-RU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3E80-32C3-4C20-B9FD-8E2E66B01255}" type="slidenum">
              <a:rPr b="1" lang="ru-RU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3C65-4E97-485C-B4B0-F4B0C3A31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3135-7FDF-4B40-9080-FF9461C1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B3D7-B488-408D-B341-63D1A6470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E5B2-2039-40A5-9D1C-0FE1BFC71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AE43-9294-45F5-827C-89A46758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3A21-FA54-460D-9491-01B89EA9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571F-EEC0-4723-8E0C-D80ED8D6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DF73-C246-4BFC-8A23-DD5E2890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C845-47CB-4EDF-9031-8ECA4662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D353-2B7E-4AE4-B9AE-6E454189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113D-71F5-4416-A23B-66D28DDD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03FF-FEBE-46CB-ADC6-93F3366D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8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Bookman Old Style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62AD-792D-42F0-889E-4C7A790599EB}" type="slidenum">
              <a:rPr b="0" lang="ru-RU" sz="14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0" y="2895480"/>
            <a:ext cx="87631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1" lang="en-US" sz="25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8001000" y="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990720" y="3124080"/>
            <a:ext cx="4495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304920" y="-304920"/>
            <a:ext cx="8381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66"/>
                </a:solidFill>
                <a:latin typeface="Georgia"/>
              </a:rPr>
              <a:t>Народна пісенна творчість у вихованні національної свідомості дошкільників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52" name="Picture 13" descr="Авторська програма"/>
          <p:cNvPicPr/>
          <p:nvPr/>
        </p:nvPicPr>
        <p:blipFill>
          <a:blip r:embed="rId1"/>
          <a:stretch/>
        </p:blipFill>
        <p:spPr>
          <a:xfrm>
            <a:off x="609480" y="2209680"/>
            <a:ext cx="2909880" cy="431964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8"/>
          <p:cNvSpPr/>
          <p:nvPr/>
        </p:nvSpPr>
        <p:spPr>
          <a:xfrm>
            <a:off x="3809880" y="2743200"/>
            <a:ext cx="43434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Bookman Old Style"/>
              </a:rPr>
              <a:t>Парціальна програма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Bookman Old Style"/>
              </a:rPr>
              <a:t>Методичні рекомендації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Bookman Old Style"/>
              </a:rPr>
              <a:t>Календарно-тематичний план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Bookman Old Style"/>
              </a:rPr>
              <a:t>Розробки занять 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Bookman Old Style"/>
              </a:rPr>
              <a:t>Сценарії свят та розваг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66"/>
                </a:solidFill>
                <a:latin typeface="Georgia"/>
              </a:rPr>
              <a:t>Розвивальне середовище</a:t>
            </a:r>
            <a:endParaRPr b="0" lang="en-US" sz="3600" spc="-1" strike="noStrike">
              <a:solidFill>
                <a:srgbClr val="ffff66"/>
              </a:solidFill>
              <a:latin typeface="Bookman Old Style"/>
            </a:endParaRPr>
          </a:p>
        </p:txBody>
      </p:sp>
      <p:pic>
        <p:nvPicPr>
          <p:cNvPr id="165" name="Picture 4" descr="SAM_8424"/>
          <p:cNvPicPr/>
          <p:nvPr/>
        </p:nvPicPr>
        <p:blipFill>
          <a:blip r:embed="rId1"/>
          <a:stretch/>
        </p:blipFill>
        <p:spPr>
          <a:xfrm>
            <a:off x="228600" y="1676520"/>
            <a:ext cx="2997360" cy="168588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66" name="Picture 5" descr="SAM_8448"/>
          <p:cNvPicPr/>
          <p:nvPr/>
        </p:nvPicPr>
        <p:blipFill>
          <a:blip r:embed="rId2"/>
          <a:stretch/>
        </p:blipFill>
        <p:spPr>
          <a:xfrm>
            <a:off x="152280" y="4114800"/>
            <a:ext cx="2971800" cy="167148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67" name="Picture 6" descr="DSC_0530"/>
          <p:cNvPicPr/>
          <p:nvPr/>
        </p:nvPicPr>
        <p:blipFill>
          <a:blip r:embed="rId3"/>
          <a:stretch/>
        </p:blipFill>
        <p:spPr>
          <a:xfrm>
            <a:off x="6248520" y="1143000"/>
            <a:ext cx="2666880" cy="178128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68" name="Picture 7" descr="DSC_0533"/>
          <p:cNvPicPr/>
          <p:nvPr/>
        </p:nvPicPr>
        <p:blipFill>
          <a:blip r:embed="rId4"/>
          <a:stretch/>
        </p:blipFill>
        <p:spPr>
          <a:xfrm>
            <a:off x="6858000" y="3276720"/>
            <a:ext cx="2066760" cy="309564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69" name="Picture 8" descr="DSC_0535"/>
          <p:cNvPicPr/>
          <p:nvPr/>
        </p:nvPicPr>
        <p:blipFill>
          <a:blip r:embed="rId5"/>
          <a:stretch/>
        </p:blipFill>
        <p:spPr>
          <a:xfrm>
            <a:off x="3657600" y="990720"/>
            <a:ext cx="2200320" cy="329544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70" name="Picture 9" descr="DSC_0544"/>
          <p:cNvPicPr/>
          <p:nvPr/>
        </p:nvPicPr>
        <p:blipFill>
          <a:blip r:embed="rId6"/>
          <a:stretch/>
        </p:blipFill>
        <p:spPr>
          <a:xfrm>
            <a:off x="3352680" y="4495680"/>
            <a:ext cx="3257640" cy="217188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sp>
        <p:nvSpPr>
          <p:cNvPr id="171" name="Rectangle 81"/>
          <p:cNvSpPr/>
          <p:nvPr/>
        </p:nvSpPr>
        <p:spPr>
          <a:xfrm>
            <a:off x="8001000" y="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uk-UA" sz="4400" spc="-1" strike="noStrike">
                <a:solidFill>
                  <a:srgbClr val="ffff66"/>
                </a:solidFill>
                <a:latin typeface="Georgia"/>
              </a:rPr>
              <a:t>Моніторинг</a:t>
            </a:r>
            <a:br>
              <a:rPr sz="4400"/>
            </a:b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66"/>
                </a:solidFill>
                <a:latin typeface="Georgia"/>
              </a:rPr>
              <a:t>	</a:t>
            </a:r>
            <a:r>
              <a:rPr b="0" lang="uk-UA" sz="2200" spc="-1" strike="noStrike">
                <a:solidFill>
                  <a:srgbClr val="ffff66"/>
                </a:solidFill>
                <a:latin typeface="Georgia"/>
              </a:rPr>
              <a:t>Мета.</a:t>
            </a:r>
            <a:r>
              <a:rPr b="0" lang="uk-UA" sz="2200" spc="-1" strike="noStrike">
                <a:solidFill>
                  <a:srgbClr val="ffffff"/>
                </a:solidFill>
                <a:latin typeface="Bookman Old Style"/>
              </a:rPr>
              <a:t> Виявлення рівня виховання національної свідомості дошкільників через народну пісенну творчість.</a:t>
            </a:r>
            <a:r>
              <a:rPr b="0" lang="ru-RU" sz="22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uk-UA" sz="2200" spc="-1" strike="noStrike">
                <a:solidFill>
                  <a:srgbClr val="ffffff"/>
                </a:solidFill>
                <a:latin typeface="Bookman Old Style"/>
              </a:rPr>
              <a:t>Основні критерії виявлення рівня виховання національної свідомості дошкільників через народну пісенну творчість:</a:t>
            </a:r>
            <a:endParaRPr b="0" lang="en-US" sz="22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Bookman Old Style"/>
              </a:rPr>
              <a:t>виховання у дошкільнят позитивного ставлення до народного музичного мистецтва;</a:t>
            </a:r>
            <a:endParaRPr b="0" lang="en-US" sz="22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Bookman Old Style"/>
              </a:rPr>
              <a:t>ознайомлення дошкільників з народною музичною творчістю України, сприяння вивченню рідної мови;</a:t>
            </a:r>
            <a:endParaRPr b="0" lang="en-US" sz="22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Bookman Old Style"/>
              </a:rPr>
              <a:t>розвиток творчих здібностей, емоційної, інтелектуальної сфер особистості;</a:t>
            </a:r>
            <a:endParaRPr b="0" lang="en-US" sz="22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Bookman Old Style"/>
              </a:rPr>
              <a:t>набуття досвіду творчої співпраці з дітьми та дорослими в музично-театралізованих розвагах та святах.</a:t>
            </a:r>
            <a:endParaRPr b="0" lang="en-US" sz="22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100" spc="-1" strike="noStrike">
                <a:solidFill>
                  <a:srgbClr val="ffff66"/>
                </a:solidFill>
                <a:latin typeface="Georgia"/>
              </a:rPr>
              <a:t>Моніторинг</a:t>
            </a:r>
            <a:endParaRPr b="1" lang="en-US" sz="41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8001000" y="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176" name="Диаграмма 8" descr=""/>
          <p:cNvPicPr/>
          <p:nvPr/>
        </p:nvPicPr>
        <p:blipFill>
          <a:blip r:embed="rId1"/>
          <a:stretch/>
        </p:blipFill>
        <p:spPr>
          <a:xfrm>
            <a:off x="835200" y="2432160"/>
            <a:ext cx="7473600" cy="343836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6"/>
          <p:cNvSpPr/>
          <p:nvPr/>
        </p:nvSpPr>
        <p:spPr>
          <a:xfrm>
            <a:off x="914400" y="8380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Bookman Old Style"/>
              </a:rPr>
              <a:t>Динаміка  рівнів виховання національної свідомості дошкільників використовуючи народну музичну творчість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66"/>
                </a:solidFill>
                <a:latin typeface="Georgia"/>
              </a:rPr>
              <a:t>Висновки</a:t>
            </a:r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168120" y="67500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Georgia"/>
                <a:ea typeface="Arial"/>
              </a:rPr>
              <a:t>Народна пісенна творчість сприяє формуванню національної свідомості дошкільнят, розвитку творчого самовираження, вихованню моральних та етичних цінностей.</a:t>
            </a:r>
            <a:endParaRPr b="1" lang="en-US" sz="2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7848720" y="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181" name="Рисунок 6" descr="C:\Documents and Settings\методист\Рабочий стол\Робота Грабаревої\Оля печатать\SAM_8960.JPG"/>
          <p:cNvPicPr/>
          <p:nvPr/>
        </p:nvPicPr>
        <p:blipFill>
          <a:blip r:embed="rId1"/>
          <a:stretch/>
        </p:blipFill>
        <p:spPr>
          <a:xfrm>
            <a:off x="533520" y="2133720"/>
            <a:ext cx="3659040" cy="244296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82" name="Рисунок 1" descr="C:\Documents and Settings\методист\Рабочий стол\SAM_1112.JPG"/>
          <p:cNvPicPr/>
          <p:nvPr/>
        </p:nvPicPr>
        <p:blipFill>
          <a:blip r:embed="rId2"/>
          <a:stretch/>
        </p:blipFill>
        <p:spPr>
          <a:xfrm>
            <a:off x="2743200" y="4191120"/>
            <a:ext cx="3200400" cy="254304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83" name="Рисунок 4" descr="C:\Documents and Settings\методист\Рабочий стол\SAM_0014.JPG"/>
          <p:cNvPicPr/>
          <p:nvPr/>
        </p:nvPicPr>
        <p:blipFill>
          <a:blip r:embed="rId3"/>
          <a:stretch/>
        </p:blipFill>
        <p:spPr>
          <a:xfrm>
            <a:off x="5181480" y="2133720"/>
            <a:ext cx="3559320" cy="267156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66"/>
                </a:solidFill>
                <a:latin typeface="Georgia"/>
              </a:rPr>
              <a:t>Мета</a:t>
            </a:r>
            <a:endParaRPr b="0" lang="en-US" sz="40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2952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Bookman Old Style"/>
              </a:rPr>
              <a:t>Виховання у дітей дошкільного віку ціннісного ставлення та почуття приналежності до українських мистецьких традицій, формування моральних переконань і чеснот на матеріалі національних звичаїв, народної пісенної творчості.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6" name="Rectangle 81"/>
          <p:cNvSpPr/>
          <p:nvPr/>
        </p:nvSpPr>
        <p:spPr>
          <a:xfrm>
            <a:off x="8001000" y="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57" name="Picture 11" descr="Бандура"/>
          <p:cNvPicPr/>
          <p:nvPr/>
        </p:nvPicPr>
        <p:blipFill>
          <a:blip r:embed="rId1"/>
          <a:stretch/>
        </p:blipFill>
        <p:spPr>
          <a:xfrm>
            <a:off x="4952880" y="2438280"/>
            <a:ext cx="39070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66"/>
                </a:solidFill>
                <a:latin typeface="Georgia"/>
              </a:rPr>
              <a:t>Завдання</a:t>
            </a:r>
            <a:endParaRPr b="0" lang="en-US" sz="40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463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man Old Style"/>
              </a:rPr>
              <a:t>здійснити аналіз психолого-педагогічної літератури з проблеми щодо виховання національної свідомості дошкільників через народну пісенну творчість;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463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man Old Style"/>
              </a:rPr>
              <a:t>забезпечити організацію навчально-виховного процесу щодо виховання національної свідомості дошкільників використовуючи народну музичну творчість;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463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man Old Style"/>
              </a:rPr>
              <a:t>оформити розвивальне середовище в ДНЗ для ознайомлення дошкільнят з народною музичною творчістю України (музей «Слов’янська спадщина», міні-музеї в групах, національні осередки);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463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man Old Style"/>
              </a:rPr>
              <a:t>зібрати та систематизувати інформаційний та музичний матеріали за темою;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463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man Old Style"/>
              </a:rPr>
              <a:t>визначити критерії та рівні щодо виховання національної свідомості дошкільників через народну музичну творчість; 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463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man Old Style"/>
              </a:rPr>
              <a:t>здійснювати моніторинг щодо виховання національної свідомості дошкільників використовуючи народну музичну творчість;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463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man Old Style"/>
              </a:rPr>
              <a:t>запровадити програму «Народна пісенна творчість у вихованні національної свідомості дошкільників». 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8001000" y="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152280" y="5899320"/>
            <a:ext cx="4114800" cy="8064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52280" y="2397240"/>
            <a:ext cx="4114800" cy="7984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52280" y="3249720"/>
            <a:ext cx="4114800" cy="7142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152280" y="4022640"/>
            <a:ext cx="4114800" cy="8114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4419720" y="4022640"/>
            <a:ext cx="4572000" cy="8114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4419720" y="3247920"/>
            <a:ext cx="4572000" cy="7146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4419720" y="2401920"/>
            <a:ext cx="4572000" cy="7984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4419720" y="4894200"/>
            <a:ext cx="4572000" cy="9478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152280" y="4894200"/>
            <a:ext cx="4114800" cy="9478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0" name="Rectangle 20"/>
          <p:cNvSpPr/>
          <p:nvPr/>
        </p:nvSpPr>
        <p:spPr>
          <a:xfrm>
            <a:off x="4419720" y="5899320"/>
            <a:ext cx="4572000" cy="8064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66"/>
                </a:solidFill>
                <a:latin typeface="Georgia"/>
              </a:rPr>
              <a:t>Очікувані результати</a:t>
            </a:r>
            <a:br>
              <a:rPr sz="4400"/>
            </a:br>
            <a:r>
              <a:rPr b="1" lang="uk-UA" sz="2400" spc="-1" strike="noStrike">
                <a:solidFill>
                  <a:srgbClr val="ffff66"/>
                </a:solidFill>
                <a:latin typeface="Georgia"/>
              </a:rPr>
              <a:t>молодший дошкільний вік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533520" y="5916600"/>
            <a:ext cx="335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елементи національного українського одягу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648320" y="3349800"/>
            <a:ext cx="4267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розрізняти настрій і темп в музиці; відтворювати образні рухи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457200" y="3505320"/>
            <a:ext cx="33526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декілька народних дитячих музичних ігор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572000" y="4054320"/>
            <a:ext cx="4343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водити хоровод, виконувати образні та парні танці, рольові дії в грі-драматизації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304920" y="4924440"/>
            <a:ext cx="3657600" cy="8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дитячі музичні інструменти: сопілка, бубон, брязкальце, дзвіночок, барабан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724280" y="4927680"/>
            <a:ext cx="403884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відтворювати найпростіші ритмічні рисунки на дитячих музичних інструментах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4952880" y="5954760"/>
            <a:ext cx="37339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підбирати елементи національного одягу відповідно статі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304920" y="2443320"/>
            <a:ext cx="36576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характерні ознаки українських колискових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4648320" y="2401920"/>
            <a:ext cx="434340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співати нескладні народні пісні, виконувати їх виразно та музикально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33520" y="4267080"/>
            <a:ext cx="33526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елементи народних рухів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2" name="Rectangle 42"/>
          <p:cNvSpPr/>
          <p:nvPr/>
        </p:nvSpPr>
        <p:spPr>
          <a:xfrm>
            <a:off x="152280" y="1600200"/>
            <a:ext cx="4114800" cy="7383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3" name="Rectangle 43"/>
          <p:cNvSpPr/>
          <p:nvPr/>
        </p:nvSpPr>
        <p:spPr>
          <a:xfrm>
            <a:off x="4419720" y="1604880"/>
            <a:ext cx="4572000" cy="7383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4" name="AutoShape 44"/>
          <p:cNvSpPr/>
          <p:nvPr/>
        </p:nvSpPr>
        <p:spPr>
          <a:xfrm>
            <a:off x="4038480" y="175104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304920" y="1739880"/>
            <a:ext cx="36576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декілька дитячих народних пісень, скоромовок, закличок, лічилок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4648320" y="1604880"/>
            <a:ext cx="43434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емоційно відгукуватися на музичні твори, орієнтуватися в загальному характері мелодії, настрої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7" name="Rectangle 81"/>
          <p:cNvSpPr/>
          <p:nvPr/>
        </p:nvSpPr>
        <p:spPr>
          <a:xfrm>
            <a:off x="8001000" y="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8" name="Rectangle 33"/>
          <p:cNvSpPr/>
          <p:nvPr/>
        </p:nvSpPr>
        <p:spPr>
          <a:xfrm>
            <a:off x="152280" y="1066680"/>
            <a:ext cx="4114800" cy="3574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9" name="Rectangle 34"/>
          <p:cNvSpPr/>
          <p:nvPr/>
        </p:nvSpPr>
        <p:spPr>
          <a:xfrm>
            <a:off x="4419720" y="1066680"/>
            <a:ext cx="4572000" cy="3621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317520" y="1143000"/>
            <a:ext cx="36576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460000"/>
                </a:solidFill>
                <a:latin typeface="Bookman Old Style"/>
              </a:rPr>
              <a:t>Знають:</a:t>
            </a:r>
            <a:endParaRPr b="1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4572000" y="1066680"/>
            <a:ext cx="4343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460000"/>
                </a:solidFill>
                <a:latin typeface="Bookman Old Style"/>
              </a:rPr>
              <a:t>Вміють:</a:t>
            </a:r>
            <a:endParaRPr b="1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2" name="AutoShape 44"/>
          <p:cNvSpPr/>
          <p:nvPr/>
        </p:nvSpPr>
        <p:spPr>
          <a:xfrm>
            <a:off x="4038480" y="259092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3" name="AutoShape 44"/>
          <p:cNvSpPr/>
          <p:nvPr/>
        </p:nvSpPr>
        <p:spPr>
          <a:xfrm>
            <a:off x="4038480" y="335268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4" name="AutoShape 44"/>
          <p:cNvSpPr/>
          <p:nvPr/>
        </p:nvSpPr>
        <p:spPr>
          <a:xfrm>
            <a:off x="4038480" y="419112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5" name="AutoShape 44"/>
          <p:cNvSpPr/>
          <p:nvPr/>
        </p:nvSpPr>
        <p:spPr>
          <a:xfrm>
            <a:off x="4038480" y="510552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6" name="AutoShape 44"/>
          <p:cNvSpPr/>
          <p:nvPr/>
        </p:nvSpPr>
        <p:spPr>
          <a:xfrm>
            <a:off x="4038480" y="609588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52280" y="4594320"/>
            <a:ext cx="4114800" cy="5032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152280" y="2149560"/>
            <a:ext cx="4114800" cy="7286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4419720" y="2166840"/>
            <a:ext cx="4572000" cy="7286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4419720" y="5156280"/>
            <a:ext cx="4572000" cy="7873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152280" y="5156280"/>
            <a:ext cx="4114800" cy="7873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4419720" y="4606920"/>
            <a:ext cx="4572000" cy="4856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66"/>
                </a:solidFill>
                <a:latin typeface="Georgia"/>
              </a:rPr>
              <a:t>Очікувані результати</a:t>
            </a:r>
            <a:br>
              <a:rPr sz="4400"/>
            </a:br>
            <a:r>
              <a:rPr b="1" lang="uk-UA" sz="2400" spc="-1" strike="noStrike">
                <a:solidFill>
                  <a:srgbClr val="ffff66"/>
                </a:solidFill>
                <a:latin typeface="Georgia"/>
              </a:rPr>
              <a:t>старший дошкільний вік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152280" y="4611600"/>
            <a:ext cx="39625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елементи народних рухів, таночків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228600" y="5189400"/>
            <a:ext cx="3809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дитячі музичні інструменти: сопілки, бубни, брязкальця, дзвіночки, трищітки тощо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4724280" y="5245200"/>
            <a:ext cx="411480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проявляти музичні та акторські здібності в інсценізації дитячих пісень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4648320" y="4662360"/>
            <a:ext cx="4267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наслідувати дорослого в творчому самовираженні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228600" y="2201760"/>
            <a:ext cx="380988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декілька дитячих народних пісень, скоромовок, закличок, лічилок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4648320" y="2166840"/>
            <a:ext cx="43434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користуватися дитячими музичними інструментами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0" name="Rectangle 33"/>
          <p:cNvSpPr/>
          <p:nvPr/>
        </p:nvSpPr>
        <p:spPr>
          <a:xfrm>
            <a:off x="152280" y="1066680"/>
            <a:ext cx="4114800" cy="3574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1" name="Rectangle 34"/>
          <p:cNvSpPr/>
          <p:nvPr/>
        </p:nvSpPr>
        <p:spPr>
          <a:xfrm>
            <a:off x="4419720" y="1066680"/>
            <a:ext cx="4572000" cy="3621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317520" y="1143000"/>
            <a:ext cx="36576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460000"/>
                </a:solidFill>
                <a:latin typeface="Bookman Old Style"/>
              </a:rPr>
              <a:t>Знають:</a:t>
            </a:r>
            <a:endParaRPr b="1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4572000" y="1066680"/>
            <a:ext cx="4343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460000"/>
                </a:solidFill>
                <a:latin typeface="Bookman Old Style"/>
              </a:rPr>
              <a:t>Вміють:</a:t>
            </a:r>
            <a:endParaRPr b="1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4" name="Rectangle 37"/>
          <p:cNvSpPr/>
          <p:nvPr/>
        </p:nvSpPr>
        <p:spPr>
          <a:xfrm>
            <a:off x="152280" y="3711600"/>
            <a:ext cx="4114800" cy="8128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5" name="Rectangle 38"/>
          <p:cNvSpPr/>
          <p:nvPr/>
        </p:nvSpPr>
        <p:spPr>
          <a:xfrm>
            <a:off x="4419720" y="3724200"/>
            <a:ext cx="4572000" cy="8128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4572000" y="3745080"/>
            <a:ext cx="43434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уявляти відповідні музичні образи та характер виконуваного фольклорного твору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228600" y="3795840"/>
            <a:ext cx="380988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декілька народних дитячих музичних ігор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8" name="Rectangle 42"/>
          <p:cNvSpPr/>
          <p:nvPr/>
        </p:nvSpPr>
        <p:spPr>
          <a:xfrm>
            <a:off x="4419720" y="6006960"/>
            <a:ext cx="4572000" cy="6843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9" name="Rectangle 43"/>
          <p:cNvSpPr/>
          <p:nvPr/>
        </p:nvSpPr>
        <p:spPr>
          <a:xfrm>
            <a:off x="152280" y="6006960"/>
            <a:ext cx="4114800" cy="6843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228600" y="601488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елементи дівочого та парубочого національного українського одягу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4876920" y="6095880"/>
            <a:ext cx="39621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самостійно одягти усі елементи українського вбрання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2" name="Rectangle 47"/>
          <p:cNvSpPr/>
          <p:nvPr/>
        </p:nvSpPr>
        <p:spPr>
          <a:xfrm>
            <a:off x="152280" y="2932200"/>
            <a:ext cx="4114800" cy="7254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3" name="Rectangle 48"/>
          <p:cNvSpPr/>
          <p:nvPr/>
        </p:nvSpPr>
        <p:spPr>
          <a:xfrm>
            <a:off x="4419720" y="2949480"/>
            <a:ext cx="4572000" cy="7257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228600" y="2978280"/>
            <a:ext cx="3733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характерні ознаки українських колискових, жартівливих народних пісень-забав</a:t>
            </a:r>
            <a:r>
              <a:rPr b="1" lang="uk-UA" sz="1400" spc="-1" strike="noStrike">
                <a:solidFill>
                  <a:srgbClr val="460000"/>
                </a:solidFill>
                <a:latin typeface="Bookman Old Style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4495680" y="2949480"/>
            <a:ext cx="449604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володіти координацією рухів при співі, під час виконання танцювальних рухів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6" name="Rectangle 52"/>
          <p:cNvSpPr/>
          <p:nvPr/>
        </p:nvSpPr>
        <p:spPr>
          <a:xfrm>
            <a:off x="152280" y="1620720"/>
            <a:ext cx="4114800" cy="4683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7" name="Rectangle 53"/>
          <p:cNvSpPr/>
          <p:nvPr/>
        </p:nvSpPr>
        <p:spPr>
          <a:xfrm>
            <a:off x="4419720" y="1620720"/>
            <a:ext cx="4572000" cy="4860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8" name="AutoShape 54"/>
          <p:cNvSpPr/>
          <p:nvPr/>
        </p:nvSpPr>
        <p:spPr>
          <a:xfrm>
            <a:off x="4038480" y="162576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152280" y="1600200"/>
            <a:ext cx="3962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що таке фольклор, види дитячого музичного фольклору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4648320" y="1676520"/>
            <a:ext cx="4267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емоційно сприймати, розуміти і виконувати фольклорний матеріал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1" name="Rectangle 81"/>
          <p:cNvSpPr/>
          <p:nvPr/>
        </p:nvSpPr>
        <p:spPr>
          <a:xfrm>
            <a:off x="8001000" y="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2" name="AutoShape 54"/>
          <p:cNvSpPr/>
          <p:nvPr/>
        </p:nvSpPr>
        <p:spPr>
          <a:xfrm>
            <a:off x="4038480" y="228600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3" name="AutoShape 54"/>
          <p:cNvSpPr/>
          <p:nvPr/>
        </p:nvSpPr>
        <p:spPr>
          <a:xfrm>
            <a:off x="4038480" y="304812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4" name="AutoShape 54"/>
          <p:cNvSpPr/>
          <p:nvPr/>
        </p:nvSpPr>
        <p:spPr>
          <a:xfrm>
            <a:off x="4038480" y="388620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5" name="AutoShape 54"/>
          <p:cNvSpPr/>
          <p:nvPr/>
        </p:nvSpPr>
        <p:spPr>
          <a:xfrm>
            <a:off x="4038480" y="464832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6" name="AutoShape 54"/>
          <p:cNvSpPr/>
          <p:nvPr/>
        </p:nvSpPr>
        <p:spPr>
          <a:xfrm>
            <a:off x="4038480" y="533412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7" name="AutoShape 54"/>
          <p:cNvSpPr/>
          <p:nvPr/>
        </p:nvSpPr>
        <p:spPr>
          <a:xfrm>
            <a:off x="4038480" y="617220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66"/>
                </a:solidFill>
                <a:latin typeface="Georgia"/>
              </a:rPr>
              <a:t>Робота з педагогічним колективом</a:t>
            </a:r>
            <a:endParaRPr b="0" lang="en-US" sz="3600" spc="-1" strike="noStrike">
              <a:solidFill>
                <a:srgbClr val="ffff66"/>
              </a:solidFill>
              <a:latin typeface="Bookman Old Style"/>
            </a:endParaRPr>
          </a:p>
        </p:txBody>
      </p:sp>
      <p:pic>
        <p:nvPicPr>
          <p:cNvPr id="139" name="Picture 2" descr="SAM_6879"/>
          <p:cNvPicPr/>
          <p:nvPr/>
        </p:nvPicPr>
        <p:blipFill>
          <a:blip r:embed="rId1"/>
          <a:stretch/>
        </p:blipFill>
        <p:spPr>
          <a:xfrm>
            <a:off x="5486400" y="1066680"/>
            <a:ext cx="3174840" cy="238608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40" name="Picture 5" descr="SAM_2854"/>
          <p:cNvPicPr/>
          <p:nvPr/>
        </p:nvPicPr>
        <p:blipFill>
          <a:blip r:embed="rId2"/>
          <a:stretch/>
        </p:blipFill>
        <p:spPr>
          <a:xfrm>
            <a:off x="762120" y="4267080"/>
            <a:ext cx="2361960" cy="235440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41" name="Рисунок 9" descr="F:\DCIM\100PHOTO\Грабарева\SAM_8966.JPG"/>
          <p:cNvPicPr/>
          <p:nvPr/>
        </p:nvPicPr>
        <p:blipFill>
          <a:blip r:embed="rId3"/>
          <a:stretch/>
        </p:blipFill>
        <p:spPr>
          <a:xfrm>
            <a:off x="2895480" y="3200400"/>
            <a:ext cx="3116520" cy="190512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42" name="Рисунок 4" descr="C:\Documents and Settings\методист\Рабочий стол\все фото\Шевченко\SAM_3604.JPG"/>
          <p:cNvPicPr/>
          <p:nvPr/>
        </p:nvPicPr>
        <p:blipFill>
          <a:blip r:embed="rId4"/>
          <a:srcRect l="26093" t="8702" r="0" b="0"/>
          <a:stretch/>
        </p:blipFill>
        <p:spPr>
          <a:xfrm>
            <a:off x="304920" y="1066680"/>
            <a:ext cx="2914560" cy="240048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sp>
        <p:nvSpPr>
          <p:cNvPr id="143" name="Rectangle 81"/>
          <p:cNvSpPr/>
          <p:nvPr/>
        </p:nvSpPr>
        <p:spPr>
          <a:xfrm>
            <a:off x="8001000" y="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144" name="Picture 4" descr="SAM_3224"/>
          <p:cNvPicPr/>
          <p:nvPr/>
        </p:nvPicPr>
        <p:blipFill>
          <a:blip r:embed="rId5"/>
          <a:stretch/>
        </p:blipFill>
        <p:spPr>
          <a:xfrm>
            <a:off x="5943600" y="4648320"/>
            <a:ext cx="2987640" cy="199224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66"/>
                </a:solidFill>
                <a:latin typeface="Georgia"/>
              </a:rPr>
              <a:t>Виховання дітей на зразках </a:t>
            </a:r>
            <a:br>
              <a:rPr sz="3600"/>
            </a:br>
            <a:r>
              <a:rPr b="0" lang="uk-UA" sz="3600" spc="-1" strike="noStrike">
                <a:solidFill>
                  <a:srgbClr val="ffff66"/>
                </a:solidFill>
                <a:latin typeface="Georgia"/>
              </a:rPr>
              <a:t>народної педагогіки</a:t>
            </a:r>
            <a:endParaRPr b="0" lang="en-US" sz="3600" spc="-1" strike="noStrike">
              <a:solidFill>
                <a:srgbClr val="ffff66"/>
              </a:solidFill>
              <a:latin typeface="Bookman Old Style"/>
            </a:endParaRPr>
          </a:p>
        </p:txBody>
      </p:sp>
      <p:pic>
        <p:nvPicPr>
          <p:cNvPr id="146" name="Рисунок 7" descr="C:\Documents and Settings\методист\Рабочий стол\Робота Грабаревої\Оля печатать\SAM_8978.JPG"/>
          <p:cNvPicPr/>
          <p:nvPr/>
        </p:nvPicPr>
        <p:blipFill>
          <a:blip r:embed="rId1"/>
          <a:stretch/>
        </p:blipFill>
        <p:spPr>
          <a:xfrm>
            <a:off x="457200" y="1523880"/>
            <a:ext cx="2895480" cy="190512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47" name="Рисунок 8" descr="C:\Documents and Settings\методист\Рабочий стол\Робота Грабаревої\Оля печатать\SAM_8994.JPG"/>
          <p:cNvPicPr/>
          <p:nvPr/>
        </p:nvPicPr>
        <p:blipFill>
          <a:blip r:embed="rId2"/>
          <a:stretch/>
        </p:blipFill>
        <p:spPr>
          <a:xfrm>
            <a:off x="5105520" y="4419720"/>
            <a:ext cx="3792240" cy="213336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48" name="Picture 5" descr="SAM_7536"/>
          <p:cNvPicPr/>
          <p:nvPr/>
        </p:nvPicPr>
        <p:blipFill>
          <a:blip r:embed="rId3"/>
          <a:srcRect l="0" t="0" r="19519" b="0"/>
          <a:stretch/>
        </p:blipFill>
        <p:spPr>
          <a:xfrm>
            <a:off x="380880" y="4572000"/>
            <a:ext cx="2795760" cy="196056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49" name="Picture 6" descr="SAM_7703"/>
          <p:cNvPicPr/>
          <p:nvPr/>
        </p:nvPicPr>
        <p:blipFill>
          <a:blip r:embed="rId4"/>
          <a:srcRect l="7643" t="0" r="12181" b="0"/>
          <a:stretch/>
        </p:blipFill>
        <p:spPr>
          <a:xfrm>
            <a:off x="5334120" y="1447920"/>
            <a:ext cx="3544920" cy="248904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50" name="Рисунок 9" descr="C:\Documents and Settings\методист\Рабочий стол\все фото\1 вересня фото\SAM_6127.JPG"/>
          <p:cNvPicPr/>
          <p:nvPr/>
        </p:nvPicPr>
        <p:blipFill>
          <a:blip r:embed="rId5"/>
          <a:stretch/>
        </p:blipFill>
        <p:spPr>
          <a:xfrm>
            <a:off x="2895480" y="3048120"/>
            <a:ext cx="2698920" cy="202392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sp>
        <p:nvSpPr>
          <p:cNvPr id="151" name="Rectangle 81"/>
          <p:cNvSpPr/>
          <p:nvPr/>
        </p:nvSpPr>
        <p:spPr>
          <a:xfrm>
            <a:off x="8001000" y="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66"/>
                </a:solidFill>
                <a:latin typeface="Georgia"/>
              </a:rPr>
              <a:t>Виховання дітей на зразках </a:t>
            </a:r>
            <a:br>
              <a:rPr sz="3600"/>
            </a:br>
            <a:r>
              <a:rPr b="0" lang="uk-UA" sz="3600" spc="-1" strike="noStrike">
                <a:solidFill>
                  <a:srgbClr val="ffff66"/>
                </a:solidFill>
                <a:latin typeface="Georgia"/>
              </a:rPr>
              <a:t>народної педагогіки</a:t>
            </a:r>
            <a:endParaRPr b="0" lang="en-US" sz="3600" spc="-1" strike="noStrike">
              <a:solidFill>
                <a:srgbClr val="ffff66"/>
              </a:solidFill>
              <a:latin typeface="Bookman Old Style"/>
            </a:endParaRPr>
          </a:p>
        </p:txBody>
      </p:sp>
      <p:pic>
        <p:nvPicPr>
          <p:cNvPr id="153" name="Picture 8" descr="SAM_688222"/>
          <p:cNvPicPr/>
          <p:nvPr/>
        </p:nvPicPr>
        <p:blipFill>
          <a:blip r:embed="rId1"/>
          <a:srcRect l="18605" t="0" r="0" b="16433"/>
          <a:stretch/>
        </p:blipFill>
        <p:spPr>
          <a:xfrm>
            <a:off x="5334120" y="1422360"/>
            <a:ext cx="3200400" cy="246384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54" name="Picture 7" descr="SAM_3266"/>
          <p:cNvPicPr/>
          <p:nvPr/>
        </p:nvPicPr>
        <p:blipFill>
          <a:blip r:embed="rId2"/>
          <a:stretch/>
        </p:blipFill>
        <p:spPr>
          <a:xfrm>
            <a:off x="685800" y="1447920"/>
            <a:ext cx="3581280" cy="238752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55" name="Рисунок 3" descr="C:\Documents and Settings\методист\Рабочий стол\SAM_0022.JPG"/>
          <p:cNvPicPr/>
          <p:nvPr/>
        </p:nvPicPr>
        <p:blipFill>
          <a:blip r:embed="rId3"/>
          <a:stretch/>
        </p:blipFill>
        <p:spPr>
          <a:xfrm>
            <a:off x="685800" y="4191120"/>
            <a:ext cx="3200400" cy="240012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56" name="Рисунок 6" descr="C:\Documents and Settings\методист\Рабочий стол\SAM_4526.JPG"/>
          <p:cNvPicPr/>
          <p:nvPr/>
        </p:nvPicPr>
        <p:blipFill>
          <a:blip r:embed="rId4"/>
          <a:stretch/>
        </p:blipFill>
        <p:spPr>
          <a:xfrm>
            <a:off x="4876920" y="4149720"/>
            <a:ext cx="3720960" cy="247968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sp>
        <p:nvSpPr>
          <p:cNvPr id="157" name="Rectangle 81"/>
          <p:cNvSpPr/>
          <p:nvPr/>
        </p:nvSpPr>
        <p:spPr>
          <a:xfrm>
            <a:off x="8001000" y="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66"/>
                </a:solidFill>
                <a:latin typeface="Georgia"/>
              </a:rPr>
              <a:t>Робота з батьками</a:t>
            </a:r>
            <a:endParaRPr b="0" lang="en-US" sz="4000" spc="-1" strike="noStrike">
              <a:solidFill>
                <a:srgbClr val="ffff66"/>
              </a:solidFill>
              <a:latin typeface="Bookman Old Style"/>
            </a:endParaRPr>
          </a:p>
        </p:txBody>
      </p:sp>
      <p:pic>
        <p:nvPicPr>
          <p:cNvPr id="159" name="Рисунок 3" descr="C:\Documents and Settings\методист\Рабочий стол\все фото\1 вересня фото\SAM_6145.JPG"/>
          <p:cNvPicPr/>
          <p:nvPr/>
        </p:nvPicPr>
        <p:blipFill>
          <a:blip r:embed="rId1"/>
          <a:stretch/>
        </p:blipFill>
        <p:spPr>
          <a:xfrm>
            <a:off x="609480" y="4267080"/>
            <a:ext cx="2819520" cy="198144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60" name="Рисунок 4" descr="C:\Documents and Settings\методист\Рабочий стол\все фото\1 вересня фото\SAM_6142.JPG"/>
          <p:cNvPicPr/>
          <p:nvPr/>
        </p:nvPicPr>
        <p:blipFill>
          <a:blip r:embed="rId2"/>
          <a:stretch/>
        </p:blipFill>
        <p:spPr>
          <a:xfrm>
            <a:off x="5562720" y="1447920"/>
            <a:ext cx="2895480" cy="217152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61" name="Рисунок 6" descr="C:\Documents and Settings\методист\Рабочий стол\news_1425755575_.JPG"/>
          <p:cNvPicPr/>
          <p:nvPr/>
        </p:nvPicPr>
        <p:blipFill>
          <a:blip r:embed="rId3"/>
          <a:stretch/>
        </p:blipFill>
        <p:spPr>
          <a:xfrm>
            <a:off x="1676520" y="1523880"/>
            <a:ext cx="3276360" cy="198144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62" name="Рисунок 7" descr="C:\Documents and Settings\методист\Рабочий стол\sam_9261.jpg"/>
          <p:cNvPicPr/>
          <p:nvPr/>
        </p:nvPicPr>
        <p:blipFill>
          <a:blip r:embed="rId4"/>
          <a:stretch/>
        </p:blipFill>
        <p:spPr>
          <a:xfrm>
            <a:off x="4267080" y="4343400"/>
            <a:ext cx="3048120" cy="198108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sp>
        <p:nvSpPr>
          <p:cNvPr id="163" name="Rectangle 81"/>
          <p:cNvSpPr/>
          <p:nvPr/>
        </p:nvSpPr>
        <p:spPr>
          <a:xfrm>
            <a:off x="8001000" y="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ndra</dc:creator>
  <dc:description/>
  <dc:language>en-US</dc:language>
  <cp:lastModifiedBy>metodist</cp:lastModifiedBy>
  <dcterms:modified xsi:type="dcterms:W3CDTF">2017-01-31T10:46:12Z</dcterms:modified>
  <cp:revision>2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