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2F2-8CA8-4F76-9154-C81AC4F5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374D-4DEF-4501-993B-0B2DA042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7996-691D-4395-B6DD-4EFF6F12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E7D5-1E84-47D7-99F6-4E368700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31F-732C-48AF-8860-E4E76C08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967-2B16-4E5D-875A-64998E76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D68-9096-402E-84DC-A795EDB3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4502-DCBE-488B-925B-25B820BF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9C0-EAA8-4FA0-A8C3-49952691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8B5-AB9F-4CCA-A4FD-8BEE3DA6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09F-CBB7-4A02-802A-85D08E7A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B9A-F803-45C7-A4B1-4BC96468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7180-6C4F-4712-8218-6E1C0AAD5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438280" y="1613880"/>
            <a:ext cx="5105520" cy="3018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cap="rnd"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7030a0"/>
                </a:solidFill>
                <a:latin typeface="Georgia"/>
                <a:ea typeface="Times New Roman"/>
              </a:rPr>
              <a:t>Колискова − тиха й задумлива матері мо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C:\Users\User\Desktop\Колискова\Колискова.jpg"/>
          <p:cNvPicPr/>
          <p:nvPr/>
        </p:nvPicPr>
        <p:blipFill>
          <a:blip r:embed="rId2"/>
          <a:stretch/>
        </p:blipFill>
        <p:spPr>
          <a:xfrm>
            <a:off x="1905120" y="838080"/>
            <a:ext cx="6324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2" descr="Колиска"/>
          <p:cNvPicPr/>
          <p:nvPr/>
        </p:nvPicPr>
        <p:blipFill>
          <a:blip r:embed="rId2"/>
          <a:stretch/>
        </p:blipFill>
        <p:spPr>
          <a:xfrm>
            <a:off x="2133720" y="228600"/>
            <a:ext cx="678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6934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методист\Рабочий стол\волошки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429.jpg"/>
          <p:cNvPicPr/>
          <p:nvPr/>
        </p:nvPicPr>
        <p:blipFill>
          <a:blip r:embed="rId2"/>
          <a:srcRect l="0" t="16150" r="0" b="0"/>
          <a:stretch/>
        </p:blipFill>
        <p:spPr>
          <a:xfrm>
            <a:off x="1828800" y="762120"/>
            <a:ext cx="6019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7-02-02T10:54:31Z</dcterms:modified>
  <cp:revision>1</cp:revision>
  <dc:subject/>
  <dc:title>Слайд 1</dc:title>
</cp:coreProperties>
</file>