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238-3A39-4E6D-A30C-21F9C713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1F3B-B384-4C5D-A353-4A11E284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E532-15E4-48ED-95B5-FEEC7107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280F-8EFE-4BA5-BD60-897683D9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CC0-892C-492F-B0A2-7D847E2D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F57C-DDFD-4EF5-B81F-6034EEFB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5688-4F96-453B-ADA2-40D30098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F6A-E104-4B4A-B406-A1D2FFBD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3067-906F-40C6-972C-8822127B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3061-C7BC-4E96-BB18-17B99465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C65-72D3-4675-80AA-3D8F077F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7D60-F9DB-47D3-BFB7-4C819677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FA30-613B-4497-B657-72A292AD2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методист\Рабочий стол\волошки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2438280" y="1613880"/>
            <a:ext cx="5105520" cy="3018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rnd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7030a0"/>
                </a:solidFill>
                <a:latin typeface="Georgia"/>
                <a:ea typeface="Times New Roman"/>
              </a:rPr>
              <a:t>Колискова − тиха й задумлива матері мо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методист\Рабочий стол\волошки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2" descr="C:\Users\User\Desktop\Колискова\Колискова.jpg"/>
          <p:cNvPicPr/>
          <p:nvPr/>
        </p:nvPicPr>
        <p:blipFill>
          <a:blip r:embed="rId2"/>
          <a:stretch/>
        </p:blipFill>
        <p:spPr>
          <a:xfrm>
            <a:off x="1905120" y="838080"/>
            <a:ext cx="63244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методист\Рабочий стол\волошки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2" descr="Колиска"/>
          <p:cNvPicPr/>
          <p:nvPr/>
        </p:nvPicPr>
        <p:blipFill>
          <a:blip r:embed="rId2"/>
          <a:stretch/>
        </p:blipFill>
        <p:spPr>
          <a:xfrm>
            <a:off x="2133720" y="228600"/>
            <a:ext cx="678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методист\Рабочий стол\волошки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1981080" y="228600"/>
            <a:ext cx="6934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методист\Рабочий стол\волошки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429.jpg"/>
          <p:cNvPicPr/>
          <p:nvPr/>
        </p:nvPicPr>
        <p:blipFill>
          <a:blip r:embed="rId2"/>
          <a:srcRect l="0" t="16150" r="0" b="0"/>
          <a:stretch/>
        </p:blipFill>
        <p:spPr>
          <a:xfrm>
            <a:off x="1828800" y="762120"/>
            <a:ext cx="6019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etodist</cp:lastModifiedBy>
  <dcterms:modified xsi:type="dcterms:W3CDTF">2017-02-02T10:54:31Z</dcterms:modified>
  <cp:revision>1</cp:revision>
  <dc:subject/>
  <dc:title>Слайд 1</dc:title>
</cp:coreProperties>
</file>