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B2F-4A26-4506-976D-4576460D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1B9-62AE-418A-9DDC-780DE05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F4-832C-4E84-B553-8303EBD8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356-9C1C-4CA8-B103-A59BEFEC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CEB-588F-4969-ABF4-3F78153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1C4-1326-4C0E-9896-0948BDA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8C2-A1B4-4AA9-A804-C989913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819-88F9-4974-B28F-CD875D61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FB0-2E37-4D9D-9E02-104E2A61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C0D-A416-451C-9672-97F9490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933-6CE1-4654-9937-D71D8CB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289-B150-4A93-9477-452DFFE2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BD33-859C-439F-A9B9-612DFCAFF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438280" y="1613880"/>
            <a:ext cx="5105520" cy="3018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7030a0"/>
                </a:solidFill>
                <a:latin typeface="Georgia"/>
                <a:ea typeface="Times New Roman"/>
              </a:rPr>
              <a:t>Колискова − тиха й задумлива матері м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:\Users\User\Desktop\Колискова\Колискова.jpg"/>
          <p:cNvPicPr/>
          <p:nvPr/>
        </p:nvPicPr>
        <p:blipFill>
          <a:blip r:embed="rId2"/>
          <a:stretch/>
        </p:blipFill>
        <p:spPr>
          <a:xfrm>
            <a:off x="1905120" y="8380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Колиска"/>
          <p:cNvPicPr/>
          <p:nvPr/>
        </p:nvPicPr>
        <p:blipFill>
          <a:blip r:embed="rId2"/>
          <a:stretch/>
        </p:blipFill>
        <p:spPr>
          <a:xfrm>
            <a:off x="2133720" y="228600"/>
            <a:ext cx="678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29.jpg"/>
          <p:cNvPicPr/>
          <p:nvPr/>
        </p:nvPicPr>
        <p:blipFill>
          <a:blip r:embed="rId2"/>
          <a:srcRect l="0" t="16150" r="0" b="0"/>
          <a:stretch/>
        </p:blipFill>
        <p:spPr>
          <a:xfrm>
            <a:off x="1828800" y="762120"/>
            <a:ext cx="6019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54:31Z</dcterms:modified>
  <cp:revision>1</cp:revision>
  <dc:subject/>
  <dc:title>Слайд 1</dc:title>
</cp:coreProperties>
</file>