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A59-4436-4B1C-A8BE-5C478284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208-BB20-4FE9-811A-139FE5A4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C59-DB0B-47E0-82BB-DF7A58D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45D-2D88-4481-8DB2-866DA8DB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2C0-B0D2-4B7F-B905-D40904A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C57-B4BB-4E0E-B1DE-065E5CD8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D01-900E-49B8-9711-AEF388B8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5FB-8EB7-4875-B1AA-27CD64B3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219-7D84-4706-90E3-5EE0030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746-684D-4B75-A8A5-6F94FAA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FBC-381A-44BC-8123-8737C76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E32-FF10-46E9-AFC1-08E1D0C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54DC-F1DD-40BA-A746-D89CDD8F9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>
            <a:off x="152388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1523880" y="0"/>
            <a:ext cx="94204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4T21:30:18Z</dcterms:created>
  <dc:creator>Денис</dc:creator>
  <dc:description/>
  <dc:language>en-US</dc:language>
  <cp:lastModifiedBy>Денис</cp:lastModifiedBy>
  <dcterms:modified xsi:type="dcterms:W3CDTF">2021-12-14T21:32:56Z</dcterms:modified>
  <cp:revision>1</cp:revision>
  <dc:subject/>
  <dc:title>Презентация PowerPoint</dc:title>
</cp:coreProperties>
</file>