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A25-1C10-4F5C-8B82-2DDEE672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549-206C-499D-8EFE-4850631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225-7F95-4D2A-9685-84E649FC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304-5AE8-41E1-ABA3-D683D6C5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3CF-AB59-4B8D-B02D-121C7CA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842-0837-47D8-BEAF-C09F039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3C9-E3C2-4A54-9936-53BD5164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61A-0A66-4F04-9882-BFEF8AFA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458-21D4-463C-8724-EE74267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C3C-E7A3-4FA5-976D-3A87C1E8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E07-BCBA-498F-871A-1014801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766-647A-4E0C-9B95-DC2E644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B60-B5DE-49CC-A414-43D1C0F92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152388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1523880" y="0"/>
            <a:ext cx="94204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4T21:30:18Z</dcterms:created>
  <dc:creator>Денис</dc:creator>
  <dc:description/>
  <dc:language>en-US</dc:language>
  <cp:lastModifiedBy>Денис</cp:lastModifiedBy>
  <dcterms:modified xsi:type="dcterms:W3CDTF">2021-12-14T21:32:56Z</dcterms:modified>
  <cp:revision>1</cp:revision>
  <dc:subject/>
  <dc:title>Презентация PowerPoint</dc:title>
</cp:coreProperties>
</file>