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BF62-44C2-4EC4-8BDC-8A91EA7F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F5C-2BB5-449C-A628-510DCA3F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D0E-C79B-4E6E-9C88-C376F526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2F60-B083-4AB3-BA26-8FABA21D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6D66-AB07-4DF7-9201-5E5F84CF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F24-9308-4342-9E05-5848F350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FF8-DC15-419A-8090-662E2C6B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2E1-4B3C-4D70-B5E9-8C602873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B88-9691-4ACD-AD14-83B00274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98F-2B17-47AA-90DA-C2A27720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9F8-4752-4CDC-9A6B-3E365999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DBB-3B55-4643-BB6A-9227099A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9F6F-64D6-4CAF-AFEA-DCA2918B63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собливост</a:t>
            </a: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і навчання старших дошкільників арифметичних зада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6" descr="30408.jpg"/>
          <p:cNvPicPr/>
          <p:nvPr/>
        </p:nvPicPr>
        <p:blipFill>
          <a:blip r:embed="rId2"/>
          <a:stretch/>
        </p:blipFill>
        <p:spPr>
          <a:xfrm>
            <a:off x="3276720" y="3429000"/>
            <a:ext cx="2293920" cy="3006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) на знаходження зменшуваного за відомим від’ємником та різницею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приклад: «Діти зробили декілька ялинкових прикрас. Одну вони вже повісили, залишилося ще 3. скільки прикрас зробили діти?»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+Z=X, 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кільк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Y=Z;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181583_image_large.jpg"/>
          <p:cNvPicPr/>
          <p:nvPr/>
        </p:nvPicPr>
        <p:blipFill>
          <a:blip r:embed="rId1"/>
          <a:stretch/>
        </p:blipFill>
        <p:spPr>
          <a:xfrm>
            <a:off x="0" y="4826160"/>
            <a:ext cx="2743200" cy="2031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сті задачі, що розкривають відношення між числами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на збільшення числа на декілька одиниць. Наприклад: «Женя зробив 2  літака, а Костя на 1більше. Скільки літаків зробив Костя?»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A+N =C;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" descr="i (1).jpg"/>
          <p:cNvPicPr/>
          <p:nvPr/>
        </p:nvPicPr>
        <p:blipFill>
          <a:blip r:embed="rId1"/>
          <a:stretch/>
        </p:blipFill>
        <p:spPr>
          <a:xfrm>
            <a:off x="304920" y="4419720"/>
            <a:ext cx="4443120" cy="24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ТАПИ НАВЧАННЯ РОЗВЯЗУВАННЯ АРИФМЕТИЧНИХ ЗАДАЧ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ший етап навчання розв’язування арифметичних задач можна умовно поділити на кілька етапів, кожен з яких має свої завданн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ерший етап навчання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 розв’язування арифметичних задач – </a:t>
            </a: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підготовчий. 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він передбачає організацію системи вправ з виконання операцій над множинами, спрямованих на розвиток елементів логічного мислення дошкільникі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Arial"/>
              </a:rPr>
              <a:t>Мета цього етапу – ознайомлення дітей з операціями над множинами (утворення множин, встановлення відношення «частина – ціле» та дії зрівнювання, ділення множин на підмножини), формування у дітей інтересу до подальшого навчанн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Як метод реалізації завдань першого етапу використовуються ігри :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Дидактичні;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Сюжетно-рольові;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Театралізовані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58d6c632e217e.jpg"/>
          <p:cNvPicPr/>
          <p:nvPr/>
        </p:nvPicPr>
        <p:blipFill>
          <a:blip r:embed="rId1"/>
          <a:stretch/>
        </p:blipFill>
        <p:spPr>
          <a:xfrm>
            <a:off x="304920" y="3430440"/>
            <a:ext cx="4267080" cy="342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Другий етап  навчання розв’язування арифметичних задач – змістовий, він передбачає роботу над простими задачами.</a:t>
            </a:r>
            <a:br>
              <a:rPr sz="3200"/>
            </a:b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Мета етапу – формування у дітей знань про арифметичну задачу та її типи. Усвідомлення дітьми суті арифметичних дій додавання і віднімання, ознайомлення із знаком «+» , «-» та «=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Методи,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 які використовуються для реалізації завдань етапу: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Моделювання;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Сюжетно-рольові ігри;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Розв’язування задач та завдань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початку вихователь ознайомлює дітей з поняттям «задача» та її структурними компонентами (умова , запитання). З цією метою можна використовувати віршовані задачі, задачі-забавлянки, загадки. На цьому етапі розв’язування задач з використанням наочн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У процесі роботи вихователь підводить дітей до розуміння суті поняття «задача» та обов’язкової наявності у ній запитання і умови з достатніми для розв’язання числовими дани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Арифметична задача –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невеличке оповідання , що містить числові величини, які перебувають у певній залежності між собою, відносно чого поставлено завдання : знайти значення певної величини, якщо відоме значення інших величин. Це відображено у запитанні, що починається словами «скільки» або «на скільк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Разом із такими завданнями організовують моделювання задач з використанням різних малюнків та схем. Головною метою моделювання є складання задач , усвідомлення суті арифметичних дій «+» та « -«. Ознайомлення зі знаками «=», «-«, та «=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Наприклад, під час навчання 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амостійного складання дітьми арифметичних задач,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 спочатку використовують різні сюжетні малюнки, а вже потім – схеми та моделі. До них додають предметні малюнки, за якими діти самостійно складають задач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априклад, така схема :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ОО_ОО=?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о цієї схеми можна додавати будь-який предметний малюнок і пропонувати дітям скласти задачу на тему, задану цим малюнком. Чи навпаки, за задачею діти можуть скласти відповідну схему, використовуючи умовні позначення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2" descr="9.jpg"/>
          <p:cNvPicPr/>
          <p:nvPr/>
        </p:nvPicPr>
        <p:blipFill>
          <a:blip r:embed="rId1"/>
          <a:stretch/>
        </p:blipFill>
        <p:spPr>
          <a:xfrm>
            <a:off x="2057400" y="4724280"/>
            <a:ext cx="518148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Третій етап – 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дійовий.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 Він передбачає поєднання у собі двох взаємопов’язаних частин: безпосередньо навчання прийомів обчислення – прилічування і відлічування по одному та 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розв’язування задач різних типі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-на знаходження суми та залишку;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-на знаходження невідомих компонентів;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-на різницеве порівняння чисел;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-непрямих задач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Мета цього етапу –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ознайомлення дітей з різними типами задач, вправляння у розв’язуванні, зацікавлення їх у подальшому навчанні розв’язування арифметичних задач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Методи, які використовують для реалізації завдань цього етапу: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моделювання;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розв’язування задач різних типі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Моделювання використовують з метою навчання дітей прийомів обчислення – прилічування і відлічування по одному. Для цього застосовують різну наочність (кольорові палички та олівці, фішки, тощо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На третьому етапі діти також вправляються у розв’язуванні різних типів задач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99"/>
                </a:solidFill>
                <a:latin typeface="Arial"/>
              </a:rPr>
              <a:t>Дякую за увагу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Arial"/>
              </a:rPr>
              <a:t>Отже, у структурі арифметичної задачі діти за допомогою вихователя виділяють лише дві частини : 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умову</a:t>
            </a:r>
            <a:r>
              <a:rPr b="0" i="1" lang="ru-RU" sz="4400" spc="-1" strike="noStrike">
                <a:solidFill>
                  <a:srgbClr val="7030a0"/>
                </a:solidFill>
                <a:latin typeface="Arial"/>
              </a:rPr>
              <a:t> (відомі числові дані задачі та зв’язок між ними) і 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запитання</a:t>
            </a:r>
            <a:r>
              <a:rPr b="0" i="1" lang="ru-RU" sz="4400" spc="-1" strike="noStrike">
                <a:solidFill>
                  <a:srgbClr val="7030a0"/>
                </a:solidFill>
                <a:latin typeface="Arial"/>
              </a:rPr>
              <a:t> (невідома величина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ласифікація простих задач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і на знаходження суми та остачі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прості задачі, при розв’язуванні яких діти усвідомлюють конкретний зміст кожної з арифметичних дій, тобто те, яка арифметична дія відповідає тій чи тій операції з множинами – об’єднання та поді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приклад: «На дереві сиділо 5 горобців. До них прилетів ще 1 горобчик. Скільки всього пташок сиділо на дереві?»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" descr="depositphotos_7730014-stock-photo-sparrows-sitting-on-a-tree.jpg"/>
          <p:cNvPicPr/>
          <p:nvPr/>
        </p:nvPicPr>
        <p:blipFill>
          <a:blip r:embed="rId1"/>
          <a:stretch/>
        </p:blipFill>
        <p:spPr>
          <a:xfrm>
            <a:off x="2514600" y="342900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+В=С – це умовний запис розв’язування задачі, де А – називається першим доданком, В – другим доданком, С – сумою.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Задачі цього типу також можна розв’язувати за допомогою віднімання :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X-Y=Z –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умовний запис розв’язування задачі , де Х – це зменшуване, 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Y – 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від’ємник, 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Z – 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різниц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і на знаходження невідомого компонента –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сті задачі, при розв’язуванні яких необхідно проаналізувати зв’язок між компонентами та результатом арифметичних ді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c8c93"/>
                </a:solidFill>
                <a:latin typeface="Arial"/>
              </a:rPr>
              <a:t>А) на знаходження першого доданка за відомою сумою та другим доданком. </a:t>
            </a:r>
            <a:r>
              <a:rPr b="0" i="1" lang="ru-RU" sz="4400" spc="-1" strike="noStrike">
                <a:solidFill>
                  <a:srgbClr val="6b6bcf"/>
                </a:solidFill>
                <a:latin typeface="Arial"/>
              </a:rPr>
              <a:t>Наприклад: «Дівчинка намалювала декілька яблук та 1 грушу. Усього на малюнку 4 фрукта. Скільки яблук намалювала дівчинка?»</a:t>
            </a:r>
            <a:br>
              <a:rPr sz="4400"/>
            </a:br>
            <a:r>
              <a:rPr b="0" i="1" lang="ru-RU" sz="4400" spc="-1" strike="noStrike">
                <a:solidFill>
                  <a:srgbClr val="6b6bcf"/>
                </a:solidFill>
                <a:latin typeface="Arial"/>
              </a:rPr>
              <a:t>С-В=А, оскільки А+В=С;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i.jpg"/>
          <p:cNvPicPr/>
          <p:nvPr/>
        </p:nvPicPr>
        <p:blipFill>
          <a:blip r:embed="rId1"/>
          <a:stretch/>
        </p:blipFill>
        <p:spPr>
          <a:xfrm>
            <a:off x="762120" y="1371600"/>
            <a:ext cx="2133360" cy="1598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Б) на знаходження другого доданка за відомою сумою та першим доданком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приклад: «Дівчинка намалювала 3 яблука та декілька груш. Усього 6 фруктів. Скільки груш намалювала дівчинка?»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-А=В, оскільки А+В=С;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15098412-Set-of-colorful-apples-illustration-Stock-Photo.jpg"/>
          <p:cNvPicPr/>
          <p:nvPr/>
        </p:nvPicPr>
        <p:blipFill>
          <a:blip r:embed="rId1"/>
          <a:stretch/>
        </p:blipFill>
        <p:spPr>
          <a:xfrm>
            <a:off x="0" y="4367160"/>
            <a:ext cx="2514600" cy="2490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Денис</cp:lastModifiedBy>
  <dcterms:modified xsi:type="dcterms:W3CDTF">2022-01-12T19:26:1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