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10C-EF43-494E-A6E8-6E8D9BC3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69B-531B-4C87-B4C8-540EB411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9AE-616B-44E1-BC6B-D072F099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652-AD34-4C0C-B349-8C557D5A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825-BA4F-4E89-A7CC-A8B64DE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E64-CEEB-43D6-86A9-DC0DF652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E53-C1F8-44BF-AA13-5E1AE74F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A71-00D9-49AB-90E8-A00EA95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7D6-E307-4E2C-96D8-EFBD004B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587-5097-4529-8146-703504A4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69A-FBF5-4E61-99CA-153AC61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8F6-A1A4-4BB5-B63F-82AE298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5070-63B7-42D4-A3BD-D06239AA8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обливост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і навчання старших дошкільників арифметичних зад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30408.jpg"/>
          <p:cNvPicPr/>
          <p:nvPr/>
        </p:nvPicPr>
        <p:blipFill>
          <a:blip r:embed="rId2"/>
          <a:stretch/>
        </p:blipFill>
        <p:spPr>
          <a:xfrm>
            <a:off x="3276720" y="3429000"/>
            <a:ext cx="2293920" cy="300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) на знаходження зменшуваного за відомим від’ємником та різницею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Діти зробили декілька ялинкових прикрас. Одну вони вже повісили, залишилося ще 3. скільки прикрас зробили діти?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+Z=X, 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кільк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Y=Z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181583_image_large.jpg"/>
          <p:cNvPicPr/>
          <p:nvPr/>
        </p:nvPicPr>
        <p:blipFill>
          <a:blip r:embed="rId1"/>
          <a:stretch/>
        </p:blipFill>
        <p:spPr>
          <a:xfrm>
            <a:off x="0" y="4826160"/>
            <a:ext cx="2743200" cy="203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і задачі, що розкривають відношення між числами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на збільшення числа на декілька одиниць. Наприклад: «Женя зробив 2  літака, а Костя на 1більше. Скільки літаків зробив Костя?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A+N =C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i (1).jpg"/>
          <p:cNvPicPr/>
          <p:nvPr/>
        </p:nvPicPr>
        <p:blipFill>
          <a:blip r:embed="rId1"/>
          <a:stretch/>
        </p:blipFill>
        <p:spPr>
          <a:xfrm>
            <a:off x="304920" y="4419720"/>
            <a:ext cx="444312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ТАПИ НАВЧАННЯ РОЗВЯЗУВАННЯ АРИФМЕТИЧНИХ ЗАДА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ший етап навчання розв’язування арифметичних задач можна умовно поділити на кілька етапів, кожен з яких має свої завданн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ерший етап навчанн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 розв’язування арифметичних задач – </a:t>
            </a: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підготовчий. 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він передбачає організацію системи вправ з виконання операцій над множинами, спрямованих на розвиток елементів логічного мислення дошкільникі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Мета цього етапу – ознайомлення дітей з операціями над множинами (утворення множин, встановлення відношення «частина – ціле» та дії зрівнювання, ділення множин на підмножини), формування у дітей інтересу до подальшого навчан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Як метод реалізації завдань першого етапу використовуються ігри :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идактичні;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южетно-рольові;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Театралізован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58d6c632e217e.jpg"/>
          <p:cNvPicPr/>
          <p:nvPr/>
        </p:nvPicPr>
        <p:blipFill>
          <a:blip r:embed="rId1"/>
          <a:stretch/>
        </p:blipFill>
        <p:spPr>
          <a:xfrm>
            <a:off x="304920" y="3430440"/>
            <a:ext cx="4267080" cy="342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Другий етап  навчання розв’язування арифметичних задач – змістовий, він передбачає роботу над простими задачами.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Мета етапу – формування у дітей знань про арифметичну задачу та її типи. Усвідомлення дітьми суті арифметичних дій додавання і віднімання, ознайомлення із знаком «+» , «-» та «=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тоди,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 які використовуються для реалізації завдань етапу: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оделювання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южетно-рольові ігри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озв’язування задач та завдань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початку вихователь ознайомлює дітей з поняттям «задача» та її структурними компонентами (умова , запитання). З цією метою можна використовувати віршовані задачі, задачі-забавлянки, загадки. На цьому етапі розв’язування задач з використанням наоч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 процесі роботи вихователь підводить дітей до розуміння суті поняття «задача» та обов’язкової наявності у ній запитання і умови з достатніми для розв’язання числовими дани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рифметична задача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невеличке оповідання , що містить числові величини, які перебувають у певній залежності між собою, відносно чого поставлено завдання : знайти значення певної величини, якщо відоме значення інших величин. Це відображено у запитанні, що починається словами «скільки» або «на скільк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зом із такими завданнями організовують моделювання задач з використанням різних малюнків та схем. Головною метою моделювання є складання задач , усвідомлення суті арифметичних дій «+» та « -«. Ознайомлення зі знаками «=», «-«, та «=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Наприклад, під час навчання 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амостійного складання дітьми арифметичних задач,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 спочатку використовують різні сюжетні малюнки, а вже потім – схеми та моделі. До них додають предметні малюнки, за якими діти самостійно складають задач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приклад, така схема :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ОО_ОО=?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 цієї схеми можна додавати будь-який предметний малюнок і пропонувати дітям скласти задачу на тему, задану цим малюнком. Чи навпаки, за задачею діти можуть скласти відповідну схему, використовуючи умовні позначення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9.jpg"/>
          <p:cNvPicPr/>
          <p:nvPr/>
        </p:nvPicPr>
        <p:blipFill>
          <a:blip r:embed="rId1"/>
          <a:stretch/>
        </p:blipFill>
        <p:spPr>
          <a:xfrm>
            <a:off x="2057400" y="4724280"/>
            <a:ext cx="51814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Третій етап – 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ійовий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 Він передбачає поєднання у собі двох взаємопов’язаних частин: безпосередньо навчання прийомів обчислення – прилічування і відлічування по одному та 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озв’язування задач різних типі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знаходження суми та залишку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знаходження невідомих компонентів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різницеве порівняння чисел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епрямих задач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ета цього етапу –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ознайомлення дітей з різними типами задач, вправляння у розв’язуванні, зацікавлення їх у подальшому навчанні розв’язування арифметичних задач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Методи, які використовують для реалізації завдань цього етапу: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делювання;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озв’язування задач різних типі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Моделювання використовують з метою навчання дітей прийомів обчислення – прилічування і відлічування по одному. Для цього застосовують різну наочність (кольорові палички та олівці, фішки, тощ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На третьому етапі діти також вправляються у розв’язуванні різних типів задач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99"/>
                </a:solidFill>
                <a:latin typeface="Arial"/>
              </a:rPr>
              <a:t>Дякую за увагу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Отже, у структурі арифметичної задачі діти за допомогою вихователя виділяють лише дві частини : 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умову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 (відомі числові дані задачі та зв’язок між ними) і 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апитання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 (невідома величин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ифікація простих задач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і на знаходження суми та остачі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прості задачі, при розв’язуванні яких діти усвідомлюють конкретний зміст кожної з арифметичних дій, тобто те, яка арифметична дія відповідає тій чи тій операції з множинами – об’єднання та поді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На дереві сиділо 5 горобців. До них прилетів ще 1 горобчик. Скільки всього пташок сиділо на дереві?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depositphotos_7730014-stock-photo-sparrows-sitting-on-a-tree.jpg"/>
          <p:cNvPicPr/>
          <p:nvPr/>
        </p:nvPicPr>
        <p:blipFill>
          <a:blip r:embed="rId1"/>
          <a:stretch/>
        </p:blipFill>
        <p:spPr>
          <a:xfrm>
            <a:off x="25146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+В=С – це умовний запис розв’язування задачі, де А – називається першим доданком, В – другим доданком, С – сумою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чі цього типу також можна розв’язувати за допомогою віднімання :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X-Y=Z –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мовний запис розв’язування задачі , де Х – це зменшуване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Y –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ід’ємник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Z –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ізниц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і на знаходження невідомого компонента –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і задачі, при розв’язуванні яких необхідно проаналізувати зв’язок між компонентами та результатом арифметичних д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8c93"/>
                </a:solidFill>
                <a:latin typeface="Arial"/>
              </a:rPr>
              <a:t>А) на знаходження першого доданка за відомою сумою та другим доданком. </a:t>
            </a:r>
            <a:r>
              <a:rPr b="0" i="1" lang="ru-RU" sz="4400" spc="-1" strike="noStrike">
                <a:solidFill>
                  <a:srgbClr val="6b6bcf"/>
                </a:solidFill>
                <a:latin typeface="Arial"/>
              </a:rPr>
              <a:t>Наприклад: «Дівчинка намалювала декілька яблук та 1 грушу. Усього на малюнку 4 фрукта. Скільки яблук намалювала дівчинка?»</a:t>
            </a:r>
            <a:br>
              <a:rPr sz="4400"/>
            </a:br>
            <a:r>
              <a:rPr b="0" i="1" lang="ru-RU" sz="4400" spc="-1" strike="noStrike">
                <a:solidFill>
                  <a:srgbClr val="6b6bcf"/>
                </a:solidFill>
                <a:latin typeface="Arial"/>
              </a:rPr>
              <a:t>С-В=А, оскільки А+В=С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i.jpg"/>
          <p:cNvPicPr/>
          <p:nvPr/>
        </p:nvPicPr>
        <p:blipFill>
          <a:blip r:embed="rId1"/>
          <a:stretch/>
        </p:blipFill>
        <p:spPr>
          <a:xfrm>
            <a:off x="762120" y="1371600"/>
            <a:ext cx="2133360" cy="1598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Б) на знаходження другого доданка за відомою сумою та першим доданком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Дівчинка намалювала 3 яблука та декілька груш. Усього 6 фруктів. Скільки груш намалювала дівчинка?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-А=В, оскільки А+В=С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15098412-Set-of-colorful-apples-illustration-Stock-Photo.jpg"/>
          <p:cNvPicPr/>
          <p:nvPr/>
        </p:nvPicPr>
        <p:blipFill>
          <a:blip r:embed="rId1"/>
          <a:stretch/>
        </p:blipFill>
        <p:spPr>
          <a:xfrm>
            <a:off x="0" y="4367160"/>
            <a:ext cx="2514600" cy="249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Денис</cp:lastModifiedBy>
  <dcterms:modified xsi:type="dcterms:W3CDTF">2022-01-12T19:26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