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B88-BE21-43DD-A4E6-E56B7F44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21A-1D44-4C55-9114-2F35E059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6B9-85E1-440D-9633-894AD565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F95-767B-4B6A-958A-3CBF163E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DC1-3601-4CF6-9E65-FA8A0C43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DC3E-1537-45B9-843B-AB66CB0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418-5B41-42AE-A0B2-CCFBFF82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131-552F-446A-85D6-E15069DC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EB-F8FD-428E-99A6-C0DDDE9B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4A48-393B-4FAC-8D45-6176AFB8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F51C-E87F-4FE7-BB31-96267373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183-EC6F-4CCC-AA48-25B3704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ffc2"/>
            </a:gs>
            <a:gs pos="100000">
              <a:srgbClr val="cc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C969-4FE6-4A77-AD05-189F4E790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ект роботи з батьками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«Виховання національної свідомості дітей шостого року життя через ознайомлення з українською народною пісенною творчістю»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016/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2017 навчальн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5733720"/>
            <a:ext cx="5832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узичний керівник Грабарєва О.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95280" y="2592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омунальний закла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«Дошкільний навчальний заклад (ясла-садок) № 27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Харківської міської рад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ключ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Тра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День Матер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Випуск до шко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Характеристика проект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метою проектної діяльності – творч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змістом – інтегров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нцевим результатом – практич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кількістю учасників – колектив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тривалістю – довготривал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асники та співучасники проекту – діти, батьки вихованців, вихователь, музичний керів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рмін реалізації – учбовий рі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5186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виховання національної свідомості дітей шостого року життя через ознайомлення з українською народною пісенною творчіст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ктуальність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найомство дітей з культурною спадщиною минулого, сучасним народним мистецтвом лежить в основі виховання патріотичних почуттів та естетичних смаків дитини, виховує потребу вносити в свій побут елементи прекрасного, розвиває художньо-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ет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ворення оптимальних умов для ефективної взаємодії дитячого саду і сім’ї в питаннях музичного виховання та розвитку дітей шляхом просвіти батьків, залучення їх до навчально-виховного процесу та надання їм можливості проявити свої творчі здібн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проект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ховання у дошкільнят позитивного ставлення до народного музичного мистецтва через особистий приклад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йомлення батьків з формами, методами і прийомами роботи з дітьми щодо організації музичного виховання на матеріалі народної музичної творчості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лучення батьків до співпраці, прагнення до взаємодії, співтворчості в інтересах дитин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понукання батьків до активної участі в підготовці та проведенні музично-театралізованих свят та розв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Очікуванні результа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вна взаємодія батьків, дітей та педагогі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цікавленість батьків до потреб дитини у співпраці, їх активна участь в святах та розваг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гуртованість батьківського колекти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68360" y="4724280"/>
            <a:ext cx="82454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артнерство, яке робить співробітництво з батьками захоплюючим, творчим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цесом спілкування, що взаємно збагачує педагогів і батьк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готовчий е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методичної літератури щодо взаємодії навчального закладу та батькі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кладання проекту щодо роботи з бать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нкетування батьків, оформлення батьківського куточка з музичного виховання: розміщення консультацій та рекомендацій до теми проек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642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Верес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для дітей дошкільного віку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«Літо, до побачення і за все спасибі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хідне анкетування для батьків «Музика в житті моєї дит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туп на батьківських зборах «Виховна роль національного пісенного фолькло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Майбутні чемпіо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Жов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екомендації для батьків «Бережіть дитячі голос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цькому роду – нема перев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Посвята в козача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ндивідуальні консультації щодо підготовки дитини до свята: розучування віршів, пісень вд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истоп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Фотовиставка «Ярмарок веселий йде в міста і се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Від народознавства до свідомого патріотизм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Осіння фантазі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64216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у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В наш рідний край завітай, Святий Миколай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батьками декорацій, атрибутів до новорічних та різдвяних свят, пошив костюм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вято «Новорічний калейдоскоп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Січ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ка-пересувка «Історія народних свя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Щастя й радості багато нам несе Різдвяне свят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чне виховання дитини в сім’ї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Козаком не просто стати – треба добре працюва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Лю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Українська народна пісня – складова народної медици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матичне заняття «Лине пісня українс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скурсія до музею дитячого садка «Слов’янська спадщ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Масляна щедра гостей всіх вітає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лан реалізації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62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овний е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Берез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готовлення декорацій, атрибутів та пошив костюмів до свята «Матінки рідненької свято зустрічаєм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Дитина та муз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творення фонотеки «Слухаємо українські народні пісн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Здоров’я – основа усього на сві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Квіт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Гумор – це веселий сміх, радість, світло для усі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нсультація для батьків «Музикотерапія в дитячому садоч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вага «Світлий день Великд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портивна розвага «Екологічні манд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1T17:17:43Z</dcterms:created>
  <dc:creator>User</dc:creator>
  <dc:description/>
  <dc:language>en-US</dc:language>
  <cp:lastModifiedBy>Admin</cp:lastModifiedBy>
  <dcterms:modified xsi:type="dcterms:W3CDTF">2017-02-01T10:40:51Z</dcterms:modified>
  <cp:revision>9</cp:revision>
  <dc:subject/>
  <dc:title>Проект роботи з батьками «Виховання національної свідомості дітей шостого року життя через ознайомлення з українською народною пісенною творчістю»</dc:title>
</cp:coreProperties>
</file>