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18D-94C4-402B-8B70-1EAE91A5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5C5-CCA6-49A8-8FAE-154A36D6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913-917F-4AEB-BA6A-4F2BBEA5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D68-CC49-48EF-B395-4635032D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2F3-F536-4D3F-9240-FF25907F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E45-CDC9-4894-B53F-49A94CEB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7147-F888-4286-906B-430B823E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3A02-C058-400C-8FCD-58D744B0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F03-E7FF-48A3-8B75-DDC0EF36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279F-08DF-4E78-960C-3A568E63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9C3-998B-4CB2-8B12-F8EF3964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B22-F11D-4859-B361-B43A4BDA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c2"/>
            </a:gs>
            <a:gs pos="100000">
              <a:srgbClr val="cc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6E9C-7333-4823-B275-78A07BC72C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оект роботи з батьками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«Виховання національної свідомості дітей шостого року життя через ознайомлення з українською народною пісенною творчістю»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16/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017 навчальн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58920" y="57337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узичний керівник Грабарєва О.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95280" y="25920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мунальний закл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«Дошкільний навчальний заклад (ясла-садок) № 27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Харківської міської ра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лан реалізації проек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85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лючний е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Тра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«День Матер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ивідуальні консультації щодо підготовки дитини до свята: розучування віршів, пісень в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вято «Випуск до шко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хідне анкетування для батьків «Музика в житті моєї дити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Характеристика проект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метою проектної діяльності – творч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змістом – інтегров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кінцевим результатом – практич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кількістю учасників – колектив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тривалістю – довготривал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часники та співучасники проекту – діти, батьки вихованців, вихователь, музичний керівн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ермін реалізації – учбовий рі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5186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виховання національної свідомості дітей шостого року життя через ознайомлення з українською народною пісенною творчіст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ктуальність: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найомство дітей з культурною спадщиною минулого, сучасним народним мистецтвом лежить в основі виховання патріотичних почуттів та естетичних смаків дитини, виховує потребу вносити в свій побут елементи прекрасного, розвиває художньо-творчі здібн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ета: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ворення оптимальних умов для ефективної взаємодії дитячого саду і сім’ї в питаннях музичного виховання та розвитку дітей шляхом просвіти батьків, залучення їх до навчально-виховного процесу та надання їм можливості проявити свої творчі здібн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Завдання проекту: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ховання у дошкільнят позитивного ставлення до народного музичного мистецтва через особистий приклад батькі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знайомлення батьків з формами, методами і прийомами роботи з дітьми щодо організації музичного виховання на матеріалі народної музичної творчост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лучення батьків до співпраці, прагнення до взаємодії, співтворчості в інтересах дитин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понукання батьків до активної участі в підготовці та проведенні музично-театралізованих свят та розв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Очікуванні результа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вна взаємодія батьків, дітей та педагогі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цікавленість батьків до потреб дитини у співпраці, їх активна участь в святах та розвага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гуртованість батьківського колекти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68360" y="4724280"/>
            <a:ext cx="82454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артнерство, яке робить співробітництво з батьками захоплюючим, творчим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цесом спілкування, що взаємно збагачує педагогів і батьк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лан реалізації проект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ідготовчий етап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вчення методичної літератури щодо взаємодії навчального закладу та батькі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ладання проекту щодо роботи з бать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нкетування батьків, оформлення батьківського куточка з музичного виховання: розміщення консультацій та рекомендацій до теми проек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лан реалізації проек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642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сновний е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Верес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для дітей дошкільного віку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«Літо, до побачення і за все спасибі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хідне анкетування для батьків «Музика в житті моєї дити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ступ на батьківських зборах «Виховна роль національного пісенного фолькло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ортивна розвага «Майбутні чемпіо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Жовт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комендації для батьків «Бережіть дитячі голос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ортивна розвага «Козацькому роду – нема перевод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«Посвята в козача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ивідуальні консультації щодо підготовки дитини до свята: розучування віршів, пісень в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вято «Ярмарок веселий йде в міста і се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Листоп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отовиставка «Ярмарок веселий йде в міста і се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нсультація для батьків «Від народознавства до свідомого патріотизм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матичне заняття «Осіння фантазі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лан реалізації проек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64216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сновний е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Груд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«В наш рідний край завітай, Святий Миколай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готовлення батьками декорацій, атрибутів до новорічних та різдвяних свят, пошив костюм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вято «Новорічний калейдоскоп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Січ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пка-пересувка «Історія народних свя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«Щастя й радості багато нам несе Різдвяне свят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нсультація для батьків «Музичне виховання дитини в сім’ї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ортивна розвага «Козаком не просто стати – треба добре працюва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Лю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нсультація для батьків «Українська народна пісня – складова народної медици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матичне заняття «Лине пісня українсь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кскурсія до музею дитячого садка «Слов’янська спадщ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«Масляна щедра гостей всіх вітає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лан реалізації проек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62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сновний е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Берез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готовлення декорацій, атрибутів та пошив костюмів до свята «Матінки рідненької свято зустрічаєм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нсультація для батьків «Дитина та муз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ворення фонотеки «Слухаємо українські народні пісн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ортивна розвага «Здоров’я – основа усього на світ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Квіт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«Гумор – це веселий сміх, радість, світло для усі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нсультація для батьків «Музикотерапія в дитячому садоч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«Світлий день Великде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ортивна розвага «Екологічні манд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7:17:43Z</dcterms:created>
  <dc:creator>User</dc:creator>
  <dc:description/>
  <dc:language>en-US</dc:language>
  <cp:lastModifiedBy>Admin</cp:lastModifiedBy>
  <dcterms:modified xsi:type="dcterms:W3CDTF">2017-02-01T10:40:51Z</dcterms:modified>
  <cp:revision>9</cp:revision>
  <dc:subject/>
  <dc:title>Проект роботи з батьками «Виховання національної свідомості дітей шостого року життя через ознайомлення з українською народною пісенною творчістю»</dc:title>
</cp:coreProperties>
</file>