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4144-D5E2-4513-814E-C483C2CA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9F8C-1B37-4003-BA8B-C223B5D2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3A4C-B25E-46D5-9848-21620979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691D-540A-4780-8E85-07FB528E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9C5-9F39-459E-99D8-62934706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5558-AE45-448F-BDF8-63963FBA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D7B3-4B0D-47E5-AE02-E4AF3880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C6ED-C174-4120-9539-09CD143A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7E97-F2BF-4B80-B011-1A348024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B79B-4F85-4312-9765-32A4D6E0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D4B4-A989-425C-AE6D-CFB10863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A0F3-0689-4A9E-8B06-92C739FD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c2"/>
            </a:gs>
            <a:gs pos="100000">
              <a:srgbClr val="cc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F565-6C5F-48A0-9E61-3A2E7CC0F5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роект роботи з батьками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«Виховання національної свідомості дітей шостого року життя через ознайомлення з українською народною пісенною творчістю»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16/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017 навчальн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р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і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58920" y="57337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узичний керівник Грабарєва О.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95280" y="25920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мунальний закла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«Дошкільний навчальний заклад (ясла-садок) № 27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Харківської міської рад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лан реалізації проек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285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лючний е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Тра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вага «День Матері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дивідуальні консультації щодо підготовки дитини до свята: розучування віршів, пісень в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вято «Випуск до школ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хідне анкетування для батьків «Музика в житті моєї дити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Характеристика проект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 метою проектної діяльності – творч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 змістом – інтегров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 кінцевим результатом – практич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 кількістю учасників – колектив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 тривалістю – довготривал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часники та співучасники проекту – діти, батьки вихованців, вихователь, музичний керівн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ермін реалізації – учбовий рі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8920" y="475920"/>
            <a:ext cx="85186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Тема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виховання національної свідомості дітей шостого року життя через ознайомлення з українською народною пісенною творчіст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ктуальність: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найомство дітей з культурною спадщиною минулого, сучасним народним мистецтвом лежить в основі виховання патріотичних почуттів та естетичних смаків дитини, виховує потребу вносити в свій побут елементи прекрасного, розвиває художньо-творчі здібн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ета: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ворення оптимальних умов для ефективної взаємодії дитячого саду і сім’ї в питаннях музичного виховання та розвитку дітей шляхом просвіти батьків, залучення їх до навчально-виховного процесу та надання їм можливості проявити свої творчі здібн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Завдання проекту: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ховання у дошкільнят позитивного ставлення до народного музичного мистецтва через особистий приклад батькі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знайомлення батьків з формами, методами і прийомами роботи з дітьми щодо організації музичного виховання на матеріалі народної музичної творчост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лучення батьків до співпраці, прагнення до взаємодії, співтворчості в інтересах дитин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понукання батьків до активної участі в підготовці та проведенні музично-театралізованих свят та розв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Очікуванні результа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вна взаємодія батьків, дітей та педагогі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цікавленість батьків до потреб дитини у співпраці, їх активна участь в святах та розвага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гуртованість батьківського колекти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68360" y="4724280"/>
            <a:ext cx="82454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артнерство, яке робить співробітництво з батьками захоплюючим, творчим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цесом спілкування, що взаємно збагачує педагогів і батьк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лан реалізації проект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ідготовчий етап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вчення методичної літератури щодо взаємодії навчального закладу та батькі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кладання проекту щодо роботи з бать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нкетування батьків, оформлення батьківського куточка з музичного виховання: розміщення консультацій та рекомендацій до теми проек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лан реалізації проек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6421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сновний е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Верес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вага для дітей дошкільного віку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«Літо, до побачення і за все спасибі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хідне анкетування для батьків «Музика в житті моєї дити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ступ на батьківських зборах «Виховна роль національного пісенного фолькло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ортивна розвага «Майбутні чемпіо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Жовт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комендації для батьків «Бережіть дитячі голос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ортивна розвага «Козацькому роду – нема перевод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вага «Посвята в козача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дивідуальні консультації щодо підготовки дитини до свята: розучування віршів, пісень в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вято «Ярмарок веселий йде в міста і се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Листоп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отовиставка «Ярмарок веселий йде в міста і се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нсультація для батьків «Від народознавства до свідомого патріотизм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матичне заняття «Осіння фантазі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лан реалізації проек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5840" y="1428480"/>
            <a:ext cx="864216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сновний е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Груд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вага «В наш рідний край завітай, Святий Миколай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готовлення батьками декорацій, атрибутів до новорічних та різдвяних свят, пошив костюм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вято «Новорічний калейдоскоп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Січ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пка-пересувка «Історія народних свя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вага «Щастя й радості багато нам несе Різдвяне свят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нсультація для батьків «Музичне виховання дитини в сім’ї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ортивна розвага «Козаком не просто стати – треба добре працюва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Лю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нсультація для батьків «Українська народна пісня – складова народної медици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матичне заняття «Лине пісня українсь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кскурсія до музею дитячого садка «Слов’янська спадщ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вага «Масляна щедра гостей всіх вітає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лан реалізації проек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62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сновний е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Берез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готовлення декорацій, атрибутів та пошив костюмів до свята «Матінки рідненької свято зустрічаєм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нсультація для батьків «Дитина та муз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ворення фонотеки «Слухаємо українські народні пісні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ортивна розвага «Здоров’я – основа усього на світі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Квіт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вага «Гумор – це веселий сміх, радість, світло для усі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нсультація для батьків «Музикотерапія в дитячому садочк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вага «Світлий день Великде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ортивна розвага «Екологічні мандр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17:17:43Z</dcterms:created>
  <dc:creator>User</dc:creator>
  <dc:description/>
  <dc:language>en-US</dc:language>
  <cp:lastModifiedBy>Admin</cp:lastModifiedBy>
  <dcterms:modified xsi:type="dcterms:W3CDTF">2017-02-01T10:40:51Z</dcterms:modified>
  <cp:revision>9</cp:revision>
  <dc:subject/>
  <dc:title>Проект роботи з батьками «Виховання національної свідомості дітей шостого року життя через ознайомлення з українською народною пісенною творчістю»</dc:title>
</cp:coreProperties>
</file>