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32AB-D216-4ED0-94B1-1E2A50D2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55C8-7AE5-4242-B3DE-AF7B0E1D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2B7-AD96-46A3-A207-0861CF2A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F4FA-4B9D-426B-B3B9-1FB1DA12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86D4-BA3E-47FD-AA3B-C552211E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E62C-C29A-4F1C-ACF8-81EAEB8D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BCDB-F264-4B5A-984B-AFDE212D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69F3-A1A3-4E1A-9B26-5DD5AE4D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D588-0570-49D6-9495-6650A032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4909-F4AF-459C-B711-55CDBF57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A24C-9512-46CA-9739-69ED1430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0625-A40C-4658-B09B-0F96DF93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2942-AC0D-4BA4-854D-8FB54B8A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2185-0757-4177-BAB4-CC6E82BE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F8BA-EAA8-4AAB-B5C0-7EFAE664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011C-8D81-4D78-85DB-BC62DD69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E42D-F4D2-48F2-BCFF-C1614875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1C46B-4F89-44B1-806F-4DCFCA90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53F86-D533-4EFF-836A-98FDC748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6EDA8-4E1E-432C-903D-DA4A377B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4567E-8F26-42C0-8287-F4B48919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0907A-EFA0-4FED-8DCF-04BFA06B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3CD2-68A6-44E3-ADDE-6E5CBF13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7EFA7-8CB8-421F-A6C4-C0075A30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DD0BB-B6D8-46FE-A7A3-C12C0AFF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3B358-ED74-418A-BB17-0AF968F9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9237E-A861-4D4F-8121-E71F9B71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438C8-D9E2-40B5-84D8-5B104D9F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FF0B4-EA4A-404D-8E9B-9791061B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BFFED-0508-44E8-A986-A276C904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36AAC-A13C-46FE-9421-3C50517B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4515B-0769-4408-9249-B064F989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4A3E1-2324-4708-8C4F-EA9BDC4D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63E4-13D6-4E56-829A-45A23EEA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A824F-AAF2-474F-8052-F034FEB1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333E6-23F4-4204-9A94-77E9B679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794FD-BB84-4070-8E84-14FFE11C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58A28-8613-42EB-A895-F47ED22F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A7CC4-7DD9-4B03-BCBD-804F0789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E4111-3CF6-45EF-897E-4D777CAC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3F990-6543-42F6-91E9-F5482D77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67AE7-28FD-419B-8D0E-AB0499D1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60605-BF9B-4797-8BEE-7C077269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46E7-59D1-458F-81B0-FB1B00ED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65E6-7D26-484B-8D5D-33AA497D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408E-CEAB-4C99-B782-DB0A3FC2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06C9-4610-4FC8-B4D2-9F429D28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030C-9831-406F-8807-1DB9B3E0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A982-81DE-49DE-BBA9-55771AE913B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EE34-DBB7-4D07-B5A5-52D71134DC8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EB78-096B-4643-8D92-AA82A2B8A21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8628-3D99-45A1-BF67-DD95DA8306B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71360" y="1071720"/>
            <a:ext cx="7786440" cy="33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800" spc="-1" strike="noStrike">
                <a:solidFill>
                  <a:srgbClr val="c00000"/>
                </a:solidFill>
                <a:latin typeface="Georgia"/>
              </a:rPr>
              <a:t>Пільгові умови оплати харчування дітей в закладах дошкільної освіти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071360" y="499680"/>
            <a:ext cx="7786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Georgia"/>
              </a:rPr>
              <a:t>Питання щодо плати за харчування дітей у закладах дошкільної освіти державної та комунальної форм власності регламентоване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d0d0d"/>
                </a:solidFill>
                <a:latin typeface="Georgia"/>
              </a:rPr>
              <a:t> </a:t>
            </a:r>
            <a:r>
              <a:rPr b="0" lang="uk-UA" sz="1800" spc="-1" strike="noStrike">
                <a:solidFill>
                  <a:srgbClr val="0d0d0d"/>
                </a:solidFill>
                <a:latin typeface="Georgia"/>
              </a:rPr>
              <a:t>ст. 35 Закону України «Про дошкільну освіту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d0d0d"/>
                </a:solidFill>
                <a:latin typeface="Georgia"/>
              </a:rPr>
              <a:t> </a:t>
            </a:r>
            <a:r>
              <a:rPr b="0" lang="uk-UA" sz="1800" spc="-1" strike="noStrike">
                <a:solidFill>
                  <a:srgbClr val="0d0d0d"/>
                </a:solidFill>
                <a:latin typeface="Georgia"/>
              </a:rPr>
              <a:t>Постановою Кабінету Міністрів України від 26.08.2002 № 1243 «Про невідкладні питання діяльності дошкільних та інтернатних закладів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d0d0d"/>
                </a:solidFill>
                <a:latin typeface="Georgia"/>
              </a:rPr>
              <a:t> </a:t>
            </a:r>
            <a:r>
              <a:rPr b="0" lang="uk-UA" sz="1800" spc="-1" strike="noStrike">
                <a:solidFill>
                  <a:srgbClr val="0d0d0d"/>
                </a:solidFill>
                <a:latin typeface="Georgia"/>
              </a:rPr>
              <a:t>Порядком встановлення плати для батьків за перебування дітей у державних і комунальних дошкільних та інтернатних навчальних закладах, затвердженим наказом Міністерства освіти і науки від 21.11.2002 № 667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071720" y="428400"/>
            <a:ext cx="78580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Georgia"/>
              </a:rPr>
              <a:t>Безкоштовним харчуванням забезпечуються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Georgia"/>
              </a:rPr>
              <a:t>діти-сироти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Georgia"/>
              </a:rPr>
              <a:t>діти, позбавлені батьківського піклування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Georgia"/>
              </a:rPr>
              <a:t>діти-інваліди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Georgia"/>
              </a:rPr>
              <a:t>діти із сімей, які отримують допомогу як малозабезпечені сім’ї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071360" y="1357200"/>
            <a:ext cx="778644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800" spc="-1" strike="noStrike">
                <a:solidFill>
                  <a:srgbClr val="ff0000"/>
                </a:solidFill>
                <a:latin typeface="Georgia"/>
              </a:rPr>
              <a:t>Розмір плати зменшується на 50 відсотків для батьків, у сім'ях яких троє і більше дітей (багатодітні родини).</a:t>
            </a:r>
            <a:r>
              <a:rPr b="0" lang="uk-UA" sz="3800" spc="-1" strike="noStrike">
                <a:solidFill>
                  <a:srgbClr val="404040"/>
                </a:solidFill>
                <a:latin typeface="Georgia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71360" y="500040"/>
            <a:ext cx="77151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4000" spc="-1" strike="noStrike">
                <a:solidFill>
                  <a:srgbClr val="404040"/>
                </a:solidFill>
                <a:latin typeface="Georgia"/>
              </a:rPr>
              <a:t>З січня 2017 року від плати за харчування звільняються діти загиблих учасників антитерористичної операції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213920" y="1214280"/>
            <a:ext cx="74725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4000" spc="-1" strike="noStrike">
                <a:solidFill>
                  <a:srgbClr val="404040"/>
                </a:solidFill>
                <a:latin typeface="Georgia"/>
              </a:rPr>
              <a:t>З січня 2018 року від плати за харчування звільняються діти учасників антитерористичної операції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000080" y="428760"/>
            <a:ext cx="78580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4000" spc="-1" strike="noStrike">
                <a:solidFill>
                  <a:srgbClr val="404040"/>
                </a:solidFill>
                <a:latin typeface="Georgia"/>
              </a:rPr>
              <a:t>Родини, в яких є діти, що постраждали внаслідок катастрофи на ЧАЕС, пільгами при оплаті за харчування </a:t>
            </a:r>
            <a:r>
              <a:rPr b="0" lang="uk-UA" sz="4000" spc="-1" strike="noStrike" u="sng">
                <a:solidFill>
                  <a:srgbClr val="404040"/>
                </a:solidFill>
                <a:uFillTx/>
                <a:latin typeface="Georgia"/>
              </a:rPr>
              <a:t>не користуються</a:t>
            </a:r>
            <a:r>
              <a:rPr b="0" lang="uk-UA" sz="4000" spc="-1" strike="noStrike">
                <a:solidFill>
                  <a:srgbClr val="404040"/>
                </a:solidFill>
                <a:latin typeface="Georgia"/>
              </a:rPr>
              <a:t> 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6680" indent="-268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6680" indent="-268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(наказ МОН від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07.04.2015  № 404 «Про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внесення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змін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до Порядку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встановлення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плати для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батьків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за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перебування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дітей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у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державних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і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комунальних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дошкільних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та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інтернатних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навчальних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закладах»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6680" indent="-268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761508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Georgia"/>
              </a:rPr>
              <a:t>Оновлення документів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71360" y="1285560"/>
            <a:ext cx="77151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Georgia"/>
              </a:rPr>
              <a:t>Документи щодо оформлення пільгової оплати харчування поновлюють за календарний рік – тобто у січні поточного року </a:t>
            </a:r>
            <a:r>
              <a:rPr b="0" i="1" lang="uk-UA" sz="1800" spc="-1" strike="noStrike">
                <a:solidFill>
                  <a:srgbClr val="404040"/>
                </a:solidFill>
                <a:latin typeface="Georgia"/>
              </a:rPr>
              <a:t>(новоприбулі діти – під час  вступу)</a:t>
            </a:r>
            <a:r>
              <a:rPr b="0" lang="uk-UA" sz="2800" spc="-1" strike="noStrike">
                <a:solidFill>
                  <a:srgbClr val="40404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Georgia"/>
              </a:rPr>
              <a:t>Якщо батьки, діти яких зараховані продовж року (не залежно від строків), надали документи при вступі, у січні </a:t>
            </a:r>
            <a:r>
              <a:rPr b="0" lang="uk-UA" sz="2800" spc="-1" strike="noStrike" u="sng">
                <a:solidFill>
                  <a:srgbClr val="404040"/>
                </a:solidFill>
                <a:uFillTx/>
                <a:latin typeface="Georgia"/>
              </a:rPr>
              <a:t>обов’язково</a:t>
            </a:r>
            <a:r>
              <a:rPr b="0" lang="uk-UA" sz="2800" spc="-1" strike="noStrike">
                <a:solidFill>
                  <a:srgbClr val="404040"/>
                </a:solidFill>
                <a:latin typeface="Georgia"/>
              </a:rPr>
              <a:t> поновлюють документ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1T14:24:09Z</dcterms:created>
  <dc:creator>admin</dc:creator>
  <dc:description/>
  <dc:language>en-US</dc:language>
  <cp:lastModifiedBy>Пользователь Windows</cp:lastModifiedBy>
  <dcterms:modified xsi:type="dcterms:W3CDTF">2020-05-04T04:29:36Z</dcterms:modified>
  <cp:revision>7</cp:revision>
  <dc:subject/>
  <dc:title>Пільгові умови оплати харчування дітей в закладах дошкільної освіти</dc:title>
</cp:coreProperties>
</file>