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6CE5-8506-43A1-93F8-4F7E51E4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895-6A77-4E77-9CAF-22BDADDF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7BC-5D13-41CC-85ED-5F5117C8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CCBD-12AA-4B9E-9EC4-680AAB1E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78FE-251A-4D4E-9F4D-EE16A8BC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24A7-7FF0-4BF3-97F2-D43F3C16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83C3-FAB7-486C-BA32-B4454878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6BC0-A864-47EC-8EE4-A637459D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F2D3-5D7D-4D48-BEDC-506A5DE3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9B22-4416-4FA0-AEBD-C409ACA7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02F7-B692-4D95-9537-F85F65C5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180-782E-444F-80C4-993D7F8F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CE9F-A841-4B42-8B89-6B97BAE6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540F-63BF-4E2B-9B4F-1822A5B5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7182-D8B1-475E-A18E-2AD9210A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7E3F-FACC-4DF0-9155-31D0DBAC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8869-0F6C-40A2-B780-886CCF9E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0FD4A-2B6A-4EC5-91FB-7E174FB8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C7B2F-EB54-4DDB-9498-A904C10A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6E6E4-C790-467F-8565-AF5BF398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95560-D51B-4081-B262-CDA7EEC9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28B6B-70A4-478D-B91A-6E0363F0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CD4-E67C-41D4-8CEB-3EE9F816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03564-60D6-4AF9-B93B-9C419D40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91919-BFA6-4F0B-85AE-4A08FD18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EC87C-BFFA-4A0A-BB08-D80A50BE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95542-A0D1-47D3-956F-87BDC8C4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892D2-1C3D-4AF1-9D0E-7E9D7641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67C3-1F8C-4943-9F42-85B4DF21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F412-3A5C-4CB6-9D3B-09E44ABE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8BA65-B829-4860-ACFB-F06251C2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DD690-1052-4345-B5F8-A536CB28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A436A-45BD-4BE4-A969-18B0B3AD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7AE-1251-4B7F-9B8A-F0746DD1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8B4A6-BA0B-4B21-AC73-0CD9D36A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A6C68-1344-4493-AEE5-2739EA95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69E2E-5C17-4552-A6D6-8B3C1AAF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AF753-C617-4CBE-BDB8-A80C378A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194AB-6FC5-46C3-BA9C-2BB08032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2A484-D075-4BA1-867D-5B864629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CEC31-99C9-442C-BC9E-73FB399B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E47F1-8D4E-45CA-B0A3-6FF6039F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02C79-3268-4065-B5E1-49C2EBD3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F31-F1B6-47B2-8097-3ACEB86E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16C-B0CB-48FC-8460-90755E67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9AD8-F586-4CA7-A988-96A1CDBE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0DA-D119-4F17-BC04-FB53ED5A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2B65-8EDF-4493-9DC7-3784E35F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205A-7839-424B-AC9C-12F5BC4706D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A24E-1376-453E-93F0-D4039BDAE4B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F1E0-A214-47CE-9281-D2FD0E19E7F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6C08-34B2-4CA1-BCBA-9E4159C62BE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1360" y="1071720"/>
            <a:ext cx="7786440" cy="33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800" spc="-1" strike="noStrike">
                <a:solidFill>
                  <a:srgbClr val="c00000"/>
                </a:solidFill>
                <a:latin typeface="Georgia"/>
              </a:rPr>
              <a:t>Пільгові умови оплати харчування дітей в закладах дошкільної освіти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071360" y="499680"/>
            <a:ext cx="7786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Georgia"/>
              </a:rPr>
              <a:t>Питання щодо плати за харчування дітей у закладах дошкільної освіти державної та комунальної форм власності регламентоване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ст. 35 Закону України «Про дошкільну освіту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Постановою Кабінету Міністрів України від 26.08.2002 № 1243 «Про невідкладні питання діяльності дошкільних та інтернатних закладів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 </a:t>
            </a:r>
            <a:r>
              <a:rPr b="0" lang="uk-UA" sz="1800" spc="-1" strike="noStrike">
                <a:solidFill>
                  <a:srgbClr val="0d0d0d"/>
                </a:solidFill>
                <a:latin typeface="Georgia"/>
              </a:rPr>
              <a:t>Порядком встановлення плати для батьків за перебування дітей у державних і комунальних дошкільних та інтернатних навчальних закладах, затвердженим наказом Міністерства освіти і науки від 21.11.2002 № 667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071720" y="428400"/>
            <a:ext cx="78580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Georgia"/>
              </a:rPr>
              <a:t>Безкоштовним харчуванням забезпечуються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Georgia"/>
              </a:rPr>
              <a:t>діти-сироти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Georgia"/>
              </a:rPr>
              <a:t>діти, позбавлені батьківського піклування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Georgia"/>
              </a:rPr>
              <a:t>діти-інваліди,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404040"/>
                </a:solidFill>
                <a:latin typeface="Georgia"/>
              </a:rPr>
              <a:t>діти із сімей, які отримують допомогу як малозабезпечені сім’ї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071360" y="1357200"/>
            <a:ext cx="77864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Georgia"/>
              </a:rPr>
              <a:t>Розмір плати зменшується на 50 відсотків для батьків, у сім'ях яких троє і більше дітей (багатодітні родини).</a:t>
            </a:r>
            <a:r>
              <a:rPr b="0" lang="uk-UA" sz="3800" spc="-1" strike="noStrike">
                <a:solidFill>
                  <a:srgbClr val="404040"/>
                </a:solidFill>
                <a:latin typeface="Georgia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71360" y="500040"/>
            <a:ext cx="7715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000" spc="-1" strike="noStrike">
                <a:solidFill>
                  <a:srgbClr val="404040"/>
                </a:solidFill>
                <a:latin typeface="Georgia"/>
              </a:rPr>
              <a:t>З січня 2017 року від плати за харчування звільняються діти загиблих учасників антитерористичної операції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213920" y="1214280"/>
            <a:ext cx="7472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000" spc="-1" strike="noStrike">
                <a:solidFill>
                  <a:srgbClr val="404040"/>
                </a:solidFill>
                <a:latin typeface="Georgia"/>
              </a:rPr>
              <a:t>З січня 2018 року від плати за харчування звільняються діти учасників антитерористичної операції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000080" y="428760"/>
            <a:ext cx="7858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000" spc="-1" strike="noStrike">
                <a:solidFill>
                  <a:srgbClr val="404040"/>
                </a:solidFill>
                <a:latin typeface="Georgia"/>
              </a:rPr>
              <a:t>Родини, в яких є діти, що постраждали внаслідок катастрофи на ЧАЕС, пільгами при оплаті за харчування </a:t>
            </a:r>
            <a:r>
              <a:rPr b="0" lang="uk-UA" sz="4000" spc="-1" strike="noStrike" u="sng">
                <a:solidFill>
                  <a:srgbClr val="404040"/>
                </a:solidFill>
                <a:uFillTx/>
                <a:latin typeface="Georgia"/>
              </a:rPr>
              <a:t>не користуються</a:t>
            </a:r>
            <a:r>
              <a:rPr b="0" lang="uk-UA" sz="4000" spc="-1" strike="noStrike">
                <a:solidFill>
                  <a:srgbClr val="404040"/>
                </a:solidFill>
                <a:latin typeface="Georgia"/>
              </a:rPr>
              <a:t> 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6680" indent="-268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6680" indent="-268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(наказ МОН від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07.04.2015  № 404 «Про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внесення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змін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до Порядку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встановлення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плати для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батьків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за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перебування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дітей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у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державних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і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комунальних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дошкільних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та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інтернатних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404040"/>
                </a:solidFill>
                <a:latin typeface="Georgia"/>
              </a:rPr>
              <a:t>навчальних</a:t>
            </a:r>
            <a:r>
              <a:rPr b="0" lang="ru-RU" sz="2400" spc="-1" strike="noStrike">
                <a:solidFill>
                  <a:srgbClr val="404040"/>
                </a:solidFill>
                <a:latin typeface="Georgia"/>
              </a:rPr>
              <a:t> закладах»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6680" indent="-268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761508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Georgia"/>
              </a:rPr>
              <a:t>Оновлення документів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71360" y="1285560"/>
            <a:ext cx="7715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Georgia"/>
              </a:rPr>
              <a:t>Документи щодо оформлення пільгової оплати харчування поновлюють за календарний рік – тобто у січні поточного року </a:t>
            </a:r>
            <a:r>
              <a:rPr b="0" i="1" lang="uk-UA" sz="1800" spc="-1" strike="noStrike">
                <a:solidFill>
                  <a:srgbClr val="404040"/>
                </a:solidFill>
                <a:latin typeface="Georgia"/>
              </a:rPr>
              <a:t>(новоприбулі діти – під час  вступу)</a:t>
            </a:r>
            <a:r>
              <a:rPr b="0" lang="uk-UA" sz="2800" spc="-1" strike="noStrike">
                <a:solidFill>
                  <a:srgbClr val="404040"/>
                </a:solidFill>
                <a:latin typeface="Georgia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404040"/>
                </a:solidFill>
                <a:latin typeface="Georgia"/>
              </a:rPr>
              <a:t>Якщо батьки, діти яких зараховані продовж року (не залежно від строків), надали документи при вступі, у січні </a:t>
            </a:r>
            <a:r>
              <a:rPr b="0" lang="uk-UA" sz="2800" spc="-1" strike="noStrike" u="sng">
                <a:solidFill>
                  <a:srgbClr val="404040"/>
                </a:solidFill>
                <a:uFillTx/>
                <a:latin typeface="Georgia"/>
              </a:rPr>
              <a:t>обов’язково</a:t>
            </a:r>
            <a:r>
              <a:rPr b="0" lang="uk-UA" sz="2800" spc="-1" strike="noStrike">
                <a:solidFill>
                  <a:srgbClr val="404040"/>
                </a:solidFill>
                <a:latin typeface="Georgia"/>
              </a:rPr>
              <a:t> поновлюють докумен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1T14:24:09Z</dcterms:created>
  <dc:creator>admin</dc:creator>
  <dc:description/>
  <dc:language>en-US</dc:language>
  <cp:lastModifiedBy>Пользователь Windows</cp:lastModifiedBy>
  <dcterms:modified xsi:type="dcterms:W3CDTF">2020-05-04T04:29:36Z</dcterms:modified>
  <cp:revision>7</cp:revision>
  <dc:subject/>
  <dc:title>Пільгові умови оплати харчування дітей в закладах дошкільної освіти</dc:title>
</cp:coreProperties>
</file>