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E82-CF38-4A6F-BE9F-21CD8B12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840-DAEF-43B5-B144-3177949A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8C3-BD55-45F2-AB0E-1C46F252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9CF-3B4C-4CFD-938A-DDDA8949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B9E-A72F-4547-A77E-080D2BB4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BC2-CDAA-480F-8E51-E32AA17D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FD2-31D4-4AAE-9D58-7BC5C61C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C11-AA74-4391-96BA-BC3C7D64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1C6-2181-4C57-A07C-701C3F0C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AB9-B45F-4664-B5BA-B80F9633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B79-92C4-4D14-A223-D090CF55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67B-18F0-4F09-B21C-2067E0D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4B19-F364-42EC-994A-2564A0A8D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h5.ggpht.com/_GCC7oaRr7eA/TP0irBlDJMI/AAAAAAAAAqA/yDXGqOkCQM8/s1600-h/_11%5B3%5D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1232640" y="2209680"/>
            <a:ext cx="66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Georgia"/>
              </a:rPr>
              <a:t>РІЗДВО В УКРАЇНІ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vimage1"/>
          <p:cNvPicPr/>
          <p:nvPr/>
        </p:nvPicPr>
        <p:blipFill>
          <a:blip r:embed="rId2"/>
          <a:stretch/>
        </p:blipFill>
        <p:spPr>
          <a:xfrm>
            <a:off x="685800" y="609480"/>
            <a:ext cx="5410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Різдвяний вертеп. Сценарій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99072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методист\Рабочий стол\сніжинки.jpg"/>
          <p:cNvPicPr/>
          <p:nvPr/>
        </p:nvPicPr>
        <p:blipFill>
          <a:blip r:embed="rId2"/>
          <a:stretch/>
        </p:blipFill>
        <p:spPr>
          <a:xfrm>
            <a:off x="128520" y="15228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методист\Рабочий стол\сніжинки.jpg"/>
          <p:cNvPicPr/>
          <p:nvPr/>
        </p:nvPicPr>
        <p:blipFill>
          <a:blip r:embed="rId3"/>
          <a:stretch/>
        </p:blipFill>
        <p:spPr>
          <a:xfrm>
            <a:off x="281160" y="30492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i-main-pic" descr="Картинка 21 из 284"/>
          <p:cNvPicPr/>
          <p:nvPr/>
        </p:nvPicPr>
        <p:blipFill>
          <a:blip r:embed="rId4"/>
          <a:stretch/>
        </p:blipFill>
        <p:spPr>
          <a:xfrm>
            <a:off x="914400" y="1371600"/>
            <a:ext cx="43434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i-main-pic" descr="Картинка 27 из 284"/>
          <p:cNvPicPr/>
          <p:nvPr/>
        </p:nvPicPr>
        <p:blipFill>
          <a:blip r:embed="rId2"/>
          <a:stretch/>
        </p:blipFill>
        <p:spPr>
          <a:xfrm>
            <a:off x="914400" y="914400"/>
            <a:ext cx="4419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7-02-02T10:40:21Z</dcterms:modified>
  <cp:revision>1</cp:revision>
  <dc:subject/>
  <dc:title>Слайд 1</dc:title>
</cp:coreProperties>
</file>