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42C-7AA6-4EF9-B62F-7FE0CC47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5D7-8FBF-407B-8169-A766D548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7A4-127F-49FD-99D9-59365F5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6B4F-7082-49C4-9D3F-83537C1E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D6F7-FB8D-4A73-9E4F-9D850C11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88A-DB31-4449-B7E4-139AB717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61B3-0C7C-4014-87C8-EFCA32D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804-EC7D-45FA-83AF-79EFAFF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052-178E-4478-A1A9-C0F3446C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EA1-3E62-4C1D-B391-E4D8478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544-BA21-4DDC-A3F8-F78CE1F78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B42-6C6F-4D64-AE41-58E64A08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286F-0FC7-429D-A4D1-44E227E23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h5.ggpht.com/_GCC7oaRr7eA/TP0irBlDJMI/AAAAAAAAAqA/yDXGqOkCQM8/s1600-h/_11%5B3%5D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1232640" y="2209680"/>
            <a:ext cx="665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Georgia"/>
              </a:rPr>
              <a:t>РІЗДВО В УКРАЇНІ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vimage1"/>
          <p:cNvPicPr/>
          <p:nvPr/>
        </p:nvPicPr>
        <p:blipFill>
          <a:blip r:embed="rId2"/>
          <a:stretch/>
        </p:blipFill>
        <p:spPr>
          <a:xfrm>
            <a:off x="685800" y="609480"/>
            <a:ext cx="5410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Різдвяний вертеп. Сценарій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9907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методист\Рабочий стол\сніжинки.jpg"/>
          <p:cNvPicPr/>
          <p:nvPr/>
        </p:nvPicPr>
        <p:blipFill>
          <a:blip r:embed="rId2"/>
          <a:stretch/>
        </p:blipFill>
        <p:spPr>
          <a:xfrm>
            <a:off x="128520" y="15228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методист\Рабочий стол\сніжинки.jpg"/>
          <p:cNvPicPr/>
          <p:nvPr/>
        </p:nvPicPr>
        <p:blipFill>
          <a:blip r:embed="rId3"/>
          <a:stretch/>
        </p:blipFill>
        <p:spPr>
          <a:xfrm>
            <a:off x="281160" y="30492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i-main-pic" descr="Картинка 21 из 284"/>
          <p:cNvPicPr/>
          <p:nvPr/>
        </p:nvPicPr>
        <p:blipFill>
          <a:blip r:embed="rId4"/>
          <a:stretch/>
        </p:blipFill>
        <p:spPr>
          <a:xfrm>
            <a:off x="914400" y="1371600"/>
            <a:ext cx="434340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методист\Рабочий стол\сніжинки.jpg"/>
          <p:cNvPicPr/>
          <p:nvPr/>
        </p:nvPicPr>
        <p:blipFill>
          <a:blip r:embed="rId1"/>
          <a:stretch/>
        </p:blipFill>
        <p:spPr>
          <a:xfrm>
            <a:off x="0" y="0"/>
            <a:ext cx="91915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i-main-pic" descr="Картинка 27 из 284"/>
          <p:cNvPicPr/>
          <p:nvPr/>
        </p:nvPicPr>
        <p:blipFill>
          <a:blip r:embed="rId2"/>
          <a:stretch/>
        </p:blipFill>
        <p:spPr>
          <a:xfrm>
            <a:off x="914400" y="914400"/>
            <a:ext cx="4419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40:21Z</dcterms:modified>
  <cp:revision>1</cp:revision>
  <dc:subject/>
  <dc:title>Слайд 1</dc:title>
</cp:coreProperties>
</file>