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E65-3944-4E3E-AA40-2F028CEC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54A-15D9-480F-A491-3FF37710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496-A6A0-4C75-9250-3E5A258D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4C1-328A-4590-8FB5-71D29A62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5E90-F5BA-4B7D-B11C-AD313335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3A7-6805-41BF-8A20-94027EF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7C7-451D-49AD-8E50-A671AD6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518C-362C-427E-B7F5-FD65D230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532A-119B-4463-A345-472E764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2A9-209D-4C7C-A5C0-7FA0B0A3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7967-3BE6-4AC7-AAF3-7B536D2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D16-3387-4523-89C9-BF5CB71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EA08-F717-4AA9-B0CA-E1D7E34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A6B2-4871-45DE-99BD-D67D0CE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53C-73A7-4DCB-9AD8-549D5E3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2A16-DA10-40D8-8C05-231DF279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7E7A-F09D-4561-98DD-BE43D9C8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A440-A21F-4228-8533-1E6BB66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31F7-20FB-4A11-B417-0CFD63A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0E46-5A94-4045-9036-42BA603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DB9F-9595-47C4-BBCC-FD785D9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8D5A-DC03-4C40-BDC0-77EE5189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00D-774C-4AC9-AE7D-0F2EA6F1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F2F3-F07B-4807-B365-C902A53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7866-7362-4972-8FBB-7F55C20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6F90-B426-4321-BACC-B8E68ED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CF47-F730-4E3A-B255-8DD15C3B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3EDC-AE0C-4294-A1F9-49B93D1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AC0B-8EB6-4B08-A25E-A73F95C1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63CD-B157-4E13-8D18-7CE39B98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E3C-E951-490A-B7CE-F25B4290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95C-0DA7-4D28-908B-87766A54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08B-B324-4EBF-A342-3E878A3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BF0-BC80-437A-93B7-681F3E5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A54-0B52-46FA-84FA-AA966C7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865-FB2C-4A85-8B2F-7B15F12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A8A-98AD-44BF-AF73-B09476C8B5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AE55-5EFE-4216-B19C-F6DD1930D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480" cy="6858000"/>
            <a:chOff x="-20160" y="0"/>
            <a:chExt cx="905148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8640" y="60840"/>
              <a:ext cx="3622680" cy="6131160"/>
              <a:chOff x="5408640" y="60840"/>
              <a:chExt cx="3622680" cy="613116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320"/>
                <a:ext cx="21160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120" y="19580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5240" y="259056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400" y="6728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3920" y="264492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9880" y="124272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92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60640" y="307800"/>
              <a:ext cx="888480" cy="833400"/>
              <a:chOff x="5660640" y="307800"/>
              <a:chExt cx="888480" cy="83340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61480" y="406800"/>
                <a:ext cx="31680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510-1F74-4215-9D51-F97254B0792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асильство та його вид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29040" y="3644640"/>
            <a:ext cx="52149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howimage"/>
          <p:cNvPicPr/>
          <p:nvPr/>
        </p:nvPicPr>
        <p:blipFill>
          <a:blip r:embed="rId1"/>
          <a:stretch/>
        </p:blipFill>
        <p:spPr>
          <a:xfrm>
            <a:off x="6715080" y="2357280"/>
            <a:ext cx="1897200" cy="28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0070523204231_7-Nasilie"/>
          <p:cNvPicPr/>
          <p:nvPr/>
        </p:nvPicPr>
        <p:blipFill>
          <a:blip r:embed="rId2"/>
          <a:stretch/>
        </p:blipFill>
        <p:spPr>
          <a:xfrm>
            <a:off x="285840" y="4071960"/>
            <a:ext cx="1904760" cy="252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trah"/>
          <p:cNvPicPr/>
          <p:nvPr/>
        </p:nvPicPr>
        <p:blipFill>
          <a:blip r:embed="rId3"/>
          <a:stretch/>
        </p:blipFill>
        <p:spPr>
          <a:xfrm>
            <a:off x="142920" y="2286000"/>
            <a:ext cx="2084400" cy="2009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110"/>
          <p:cNvPicPr/>
          <p:nvPr/>
        </p:nvPicPr>
        <p:blipFill>
          <a:blip r:embed="rId4"/>
          <a:stretch/>
        </p:blipFill>
        <p:spPr>
          <a:xfrm>
            <a:off x="4572000" y="4886280"/>
            <a:ext cx="2428920" cy="1760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3992213f248a27e174d44e000fd0a3c5"/>
          <p:cNvPicPr/>
          <p:nvPr/>
        </p:nvPicPr>
        <p:blipFill>
          <a:blip r:embed="rId5"/>
          <a:stretch/>
        </p:blipFill>
        <p:spPr>
          <a:xfrm>
            <a:off x="2500200" y="2428920"/>
            <a:ext cx="2178000" cy="283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Хто найчастіше є жертвою шкільного насилля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Picture 4" descr="c4010d579c"/>
          <p:cNvPicPr/>
          <p:nvPr/>
        </p:nvPicPr>
        <p:blipFill>
          <a:blip r:embed="rId1"/>
          <a:srcRect l="0" t="0" r="0" b="9179"/>
          <a:stretch/>
        </p:blipFill>
        <p:spPr>
          <a:xfrm>
            <a:off x="5664240" y="2643120"/>
            <a:ext cx="2998800" cy="4073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67120" y="1217520"/>
            <a:ext cx="513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ові учні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що мають проблем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і здоров’ям ті ,які носят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куляри, погано чуют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ють  зайву  вагу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які добре  вчаться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ле фізично слабші за інших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льш низьк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амооцінкою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дних сіме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Хто ображає найчастіш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асто це діти, які самі зазнавали образ   вдома, в дитячому садочку чи в молодших класах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неблагополучних сімей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, які хочуть себе показати, завоювати популярність в очах інших, будь-яким способом  привабити до себе увагу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середньою чи  низькою успішністю 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Що робити, якщо ти став жертвою шкільного насилля чи знаєш, що когось ображають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кажи про це дорослим – батькам, класному керівнику, директору школи, психоло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никайте місць, в яких можна стати жертвою шкільного насилля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оди разом з друзями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аднику важливо, щоб ти звернув на нього увагу, боявся його, то намагайся не помічати його ігноруй виклики у вашу адр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3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85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Verdana"/>
              </a:rPr>
              <a:t>Правила які допоможуть запобігти насильству в сім’ї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родумайте свої дії в тому випадку, якщо акт насильства вже відбувався і може повторитися знов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Розповідайте про насильство тим, кому ви довіряєте (друзям родичам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найдіть таке місце ,куди ви змогли б піти у випадку небезпе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ідготуйте документи (паспорт,свідоцтво про народження, і т., д.) гроші та інші необхідні речі та покладіть їх в одне місце, так щоб у будь-який момент ви змогли б їх легко взяти і втекти з ним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Якщо ситуація критична, то залишайте будинок негайно, навіть якщо вам не вдалося взяти необхідні речі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аздалегідь довідайтесь телефони та адреси місцевих служб , які зможуть надати необхідну підтримку (кризовий центр для жінок, соціальні служби, телефони довіри, телефон  дільничого  інспектора, служби у справах неповнолітніх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5" descr="0488"/>
          <p:cNvPicPr/>
          <p:nvPr/>
        </p:nvPicPr>
        <p:blipFill>
          <a:blip r:embed="rId1"/>
          <a:stretch/>
        </p:blipFill>
        <p:spPr>
          <a:xfrm>
            <a:off x="7072200" y="5500800"/>
            <a:ext cx="159084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- це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одноразова дія, а процес, що складається з циклів насильства, які тримаються на продовженні стосунків потерпілої та кривдника. Якщо насильство один раз з’явилось у стосунках, то є велика імовірність, що воно повториться, а інтенсивність його і ступінь жорстокості будуть зростати. Динаміка таких стосунків може бути проілюстрована так званою хвилею насильств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Verdana"/>
              </a:rPr>
              <a:t>Правила, які допоможуть запобігти насильству на вулиці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00" y="1714680"/>
            <a:ext cx="81579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 пізній час не ходіть одні по вулиці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Знайте елементарні прийоми самооборо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Продумайте свої дії в тому випадку, якщо акт насильства можлив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Майте при собі один з засобів безпеки:  газовий балончик дезодорант, пилочку…. Та продумайте їх використання в разі здійснення акту насильств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ідчуваєте небезпеку – терміново тікайт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а вас напали – кричіть, біжіть, привертайте до себе уваг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Телефонуйте до міліції, швидкої 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иключіть непорозуміння: будьте впевнені , що ваш знайомий друг знає межі дозволеног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впускайте в будинок незнайомців особливо, якщо ви почуваєте себе не спокій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сідайте з незнайомцями до ліф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Безымянный"/>
          <p:cNvPicPr/>
          <p:nvPr/>
        </p:nvPicPr>
        <p:blipFill>
          <a:blip r:embed="rId1"/>
          <a:stretch/>
        </p:blipFill>
        <p:spPr>
          <a:xfrm>
            <a:off x="6215040" y="4959360"/>
            <a:ext cx="1928880" cy="156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46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46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уди звертатись у випадку насиль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рм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і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ово телефонуйте 10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вертайтесь до обласного центру соціальних служб для сім’ї, дітей та молоді - 37 15 64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Служба у справах неповнолітніх облдержадміністрації - 47 10 9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Жіночий інформаційно-консультативний центр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40 07 32, 40 07 3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Обласний гендерний ресурсний центр 46 13 6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агальнонаціональна гаряча лінія центру “Ла Страда-Україна” з питань насильства (дзвінки безкоштовні) 8 800 500 33 5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Всеукраїнська дитяча лінія “Телефон довіри” (дзвінки безкоштовні)   500 21 8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5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ТАТТІ КРИМІНАЛЬНОГО КОДЕКС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За цими статтями можна притягнути до кримінальної відповідальності особу, що вчинила насиль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15 Умисне вбив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0 Доведення до самогуб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1 Умисне тяж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5 Умисне лег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6 Побої та мордування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9 Погроза вбивств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Picture 4" descr="imgmain"/>
          <p:cNvPicPr/>
          <p:nvPr/>
        </p:nvPicPr>
        <p:blipFill>
          <a:blip r:embed="rId1"/>
          <a:stretch/>
        </p:blipFill>
        <p:spPr>
          <a:xfrm>
            <a:off x="6643800" y="5143680"/>
            <a:ext cx="1950840" cy="135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Як запобігти насильств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е вчиняти насильство по відношенню до інш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ти про відповідальність за свої дії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йте, ви гідні поваги, бо ви люди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Кожна людина має право на поваг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Інші люди, також заслуговують поваг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авчіться конструктивно розв’язувати конфлік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Що таке насиль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сильство ставить людину у залежн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ь, а також наносить шкоду суспільству і є серйозною перешкодою на шляху до подолання нерівності дотримання прав лю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Orgprest"/>
          <p:cNvPicPr/>
          <p:nvPr/>
        </p:nvPicPr>
        <p:blipFill>
          <a:blip r:embed="rId1"/>
          <a:stretch/>
        </p:blipFill>
        <p:spPr>
          <a:xfrm>
            <a:off x="5500800" y="3978360"/>
            <a:ext cx="2714400" cy="252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3600" y="185760"/>
            <a:ext cx="8091720" cy="74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 це…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-які навмисні дії, фізичного, сексуального, психологічного чи економічного спрямування одної людини по відношенню до іншої, які порушують її конституційні права й свободи і наносять їй моральну шкоду, шкоду її фізичному чи психічному здоров’ю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09160"/>
            <a:ext cx="79722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Види </a:t>
            </a:r>
            <a:r>
              <a:rPr b="0" lang="uk-UA" sz="4800" spc="-1" strike="noStrike">
                <a:solidFill>
                  <a:srgbClr val="ffff99"/>
                </a:solidFill>
                <a:latin typeface="Verdana"/>
              </a:rPr>
              <a:t>насильства</a:t>
            </a: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 Rounded MT Bold"/>
              </a:rPr>
              <a:t>Емоційне або психологічне 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иск на психіку іншої людини, який проявляється у нанесенні словесних образ, погроз, залякуванні, переслідуванні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showimage"/>
          <p:cNvPicPr/>
          <p:nvPr/>
        </p:nvPicPr>
        <p:blipFill>
          <a:blip r:embed="rId1"/>
          <a:stretch/>
        </p:blipFill>
        <p:spPr>
          <a:xfrm>
            <a:off x="7215120" y="4143240"/>
            <a:ext cx="1674720" cy="2525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   </a:t>
            </a: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А саме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6786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гнорування твоїх почуттів і потреб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Брудна лайка, залякування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кину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езпідставні покаранн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Контролювання доступу до одноліткі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завдати шкоди близькій люд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несення шкоди твоїй домашній твар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ищення особистих реч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віювання почуття провини і страху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рехня, звинувачення, приниження, прізвись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водження з тобою як з слуго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4" descr="20070523204231_7-Nasilie"/>
          <p:cNvPicPr/>
          <p:nvPr/>
        </p:nvPicPr>
        <p:blipFill>
          <a:blip r:embed="rId1"/>
          <a:stretch/>
        </p:blipFill>
        <p:spPr>
          <a:xfrm>
            <a:off x="6929280" y="333360"/>
            <a:ext cx="1924200" cy="254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Фізичне насильство- це…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Нанесення тілесних ушкоджень,які завдають болю, призводять до порушень психічного та фізичного здоров’я, чи навіть смер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Це штовхання і смиканн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Щипки, удари, стусани, побитт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Знущання, викручування рук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Жбурляння предметі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Спроби задушит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strah"/>
          <p:cNvPicPr/>
          <p:nvPr/>
        </p:nvPicPr>
        <p:blipFill>
          <a:blip r:embed="rId1"/>
          <a:stretch/>
        </p:blipFill>
        <p:spPr>
          <a:xfrm>
            <a:off x="7000920" y="4857840"/>
            <a:ext cx="1881000" cy="1812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autoRev="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98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898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398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98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98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898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280" y="102960"/>
            <a:ext cx="820116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Verdana"/>
              </a:rPr>
              <a:t>Економ</a:t>
            </a:r>
            <a:r>
              <a:rPr b="0" lang="uk-UA" sz="4400" spc="-1" strike="noStrike">
                <a:solidFill>
                  <a:srgbClr val="dddddd"/>
                </a:solidFill>
                <a:latin typeface="Verdana"/>
              </a:rPr>
              <a:t>ічне насильств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умисне позбавлення людини права на житло, їжу, одяг, кошти та інше майно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створення економічної залежнос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ирання гроше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ніпулювання їжею, одяг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доме руйнування майн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c0c0"/>
                </a:solidFill>
                <a:latin typeface="Verdana"/>
              </a:rPr>
              <a:t>Сексуальне насильств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зазіхання на статеву недоторканість особи, а також дії сексуального характеру по відношенню до неповнолітнього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і сексуальні доти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омагання, згвалтуванн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природні сексуальні д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мус до проституц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ня застосовувати контрацепці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110"/>
          <p:cNvPicPr/>
          <p:nvPr/>
        </p:nvPicPr>
        <p:blipFill>
          <a:blip r:embed="rId1"/>
          <a:stretch/>
        </p:blipFill>
        <p:spPr>
          <a:xfrm>
            <a:off x="6723000" y="3227400"/>
            <a:ext cx="2151000" cy="155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Verdana"/>
              </a:rPr>
              <a:t>Ш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ільне насильство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5960" y="999720"/>
            <a:ext cx="71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це те, що стосується твого однокласника  або  учня твоєї школи: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риставання, знуща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забирання речей, їх               псування і забрудне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ігнорування, розповсюдження пліток і наклепів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гроза насильством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битт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вилучення грошей, реч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4" descr="3992213f248a27e174d44e000fd0a3c5"/>
          <p:cNvPicPr/>
          <p:nvPr/>
        </p:nvPicPr>
        <p:blipFill>
          <a:blip r:embed="rId1"/>
          <a:stretch/>
        </p:blipFill>
        <p:spPr>
          <a:xfrm>
            <a:off x="179280" y="2049480"/>
            <a:ext cx="3035520" cy="395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51:20Z</dcterms:created>
  <dc:creator>Гость</dc:creator>
  <dc:description/>
  <dc:language>en-US</dc:language>
  <cp:lastModifiedBy>Денис</cp:lastModifiedBy>
  <dcterms:modified xsi:type="dcterms:W3CDTF">2021-03-11T20:40:01Z</dcterms:modified>
  <cp:revision>31</cp:revision>
  <dc:subject/>
  <dc:title>Що таке насильство?</dc:title>
</cp:coreProperties>
</file>