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3869-A724-463F-BB2B-FA2CC563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A3A-1A61-47A4-BF6D-E7AB61BF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5323-7B23-4688-80FC-6DEDACDA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729-B64C-4C75-8DDF-DA4F197D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0E1B-4AF1-4952-B68F-1E53E429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9235-284F-41D9-82E3-8580AEC5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F1D0-8438-4B5E-94DC-0C9555E5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A4AF-624A-4267-BBAC-F885E455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243D-A81F-4C5E-8931-BD661444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A1E9-2916-409F-B81C-932802BB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E023-3C92-4BD8-AA75-92B22F43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10E-6584-41BA-ABDF-7A26101C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3D54-D530-48F0-ACBC-FA576E2D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A153-C0F4-4A3C-9F49-E3300959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E9B6-8934-43B3-949B-DE08AE3D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1F6E-46DC-4EF8-BA17-0E2A0BFA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2725-B150-4BD6-ACBD-71BA000E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72AAC-A712-4693-9C9B-103758F3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4D840-F152-453E-83F7-1A8BCD83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4ACA4-3F16-4969-B933-63E6A829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53E7-840C-45BB-89AB-A68C4DC8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2855F-67FE-4085-8220-35887132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99A-AD4A-4074-B7EE-9342117B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4BF75-2750-41D0-891B-40F397A3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DE66-A3B5-4A69-8CD9-555FCC6E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B1FF-6429-4F48-9583-3B21EF59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92D3-011B-4EC8-B986-EC25B0B6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1D310-102C-4306-9D0F-C570527F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D07D-EF3C-4B89-8596-92A451DB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CAFA-AA61-464B-A74D-D4A250FC4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4DD-3750-4F63-A8C7-48768115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3A8-D033-4561-9DED-74D74804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DC1-F43A-465E-9E60-5FBD3ECE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DA23-3016-4731-8DCC-0E260C90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72B-B84B-4411-8F62-148834A7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A86C-6795-4F6A-B11A-0ABA4D2F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6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9E54-ECB4-4EDD-9129-94090BFD183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5F5E-59A5-4A22-8518-E9BF5B233E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480" cy="6858000"/>
            <a:chOff x="-20160" y="0"/>
            <a:chExt cx="905148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8640" y="60840"/>
              <a:ext cx="3622680" cy="6131160"/>
              <a:chOff x="5408640" y="60840"/>
              <a:chExt cx="3622680" cy="613116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6320"/>
                <a:ext cx="2116080" cy="23562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120" y="1958040"/>
                <a:ext cx="90648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5240" y="2590560"/>
                <a:ext cx="4399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400" y="67284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3920" y="264492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9880" y="124272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8920" y="293040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50800" y="1033200"/>
              <a:ext cx="1015560" cy="1262520"/>
              <a:chOff x="4150800" y="1033200"/>
              <a:chExt cx="1015560" cy="126252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516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5012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1084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60640" y="307800"/>
              <a:ext cx="888480" cy="833400"/>
              <a:chOff x="5660640" y="307800"/>
              <a:chExt cx="888480" cy="83340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72960" y="811080"/>
                <a:ext cx="17712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20760" y="485640"/>
                <a:ext cx="3027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61480" y="406800"/>
                <a:ext cx="31680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71280" y="5266800"/>
              <a:ext cx="1058040" cy="833400"/>
              <a:chOff x="971280" y="5266800"/>
              <a:chExt cx="1058040" cy="8334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2880" y="5530680"/>
                <a:ext cx="25092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8440" y="5745600"/>
                <a:ext cx="42984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2280" y="5391360"/>
                <a:ext cx="44928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49640"/>
              <a:ext cx="1690560" cy="1146600"/>
              <a:chOff x="375840" y="449640"/>
              <a:chExt cx="169056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440" y="106812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3120" y="59328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10736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80720" y="3712320"/>
              <a:ext cx="1156320" cy="1607760"/>
              <a:chOff x="7380720" y="3712320"/>
              <a:chExt cx="115632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8861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790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609A-0EF5-46C8-BBD6-B5B25140A80D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36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Насильство та його види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29040" y="3644640"/>
            <a:ext cx="52149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showimage"/>
          <p:cNvPicPr/>
          <p:nvPr/>
        </p:nvPicPr>
        <p:blipFill>
          <a:blip r:embed="rId1"/>
          <a:stretch/>
        </p:blipFill>
        <p:spPr>
          <a:xfrm>
            <a:off x="6715080" y="2357280"/>
            <a:ext cx="1897200" cy="2859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20070523204231_7-Nasilie"/>
          <p:cNvPicPr/>
          <p:nvPr/>
        </p:nvPicPr>
        <p:blipFill>
          <a:blip r:embed="rId2"/>
          <a:stretch/>
        </p:blipFill>
        <p:spPr>
          <a:xfrm>
            <a:off x="285840" y="4071960"/>
            <a:ext cx="1904760" cy="2523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strah"/>
          <p:cNvPicPr/>
          <p:nvPr/>
        </p:nvPicPr>
        <p:blipFill>
          <a:blip r:embed="rId3"/>
          <a:stretch/>
        </p:blipFill>
        <p:spPr>
          <a:xfrm>
            <a:off x="142920" y="2286000"/>
            <a:ext cx="2084400" cy="2009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110"/>
          <p:cNvPicPr/>
          <p:nvPr/>
        </p:nvPicPr>
        <p:blipFill>
          <a:blip r:embed="rId4"/>
          <a:stretch/>
        </p:blipFill>
        <p:spPr>
          <a:xfrm>
            <a:off x="4572000" y="4886280"/>
            <a:ext cx="2428920" cy="1760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3992213f248a27e174d44e000fd0a3c5"/>
          <p:cNvPicPr/>
          <p:nvPr/>
        </p:nvPicPr>
        <p:blipFill>
          <a:blip r:embed="rId5"/>
          <a:stretch/>
        </p:blipFill>
        <p:spPr>
          <a:xfrm>
            <a:off x="2500200" y="2428920"/>
            <a:ext cx="2178000" cy="2835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Verdana"/>
              </a:rPr>
              <a:t>Хто найчастіше є жертвою шкільного насилля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Picture 4" descr="c4010d579c"/>
          <p:cNvPicPr/>
          <p:nvPr/>
        </p:nvPicPr>
        <p:blipFill>
          <a:blip r:embed="rId1"/>
          <a:srcRect l="0" t="0" r="0" b="9179"/>
          <a:stretch/>
        </p:blipFill>
        <p:spPr>
          <a:xfrm>
            <a:off x="5664240" y="2643120"/>
            <a:ext cx="2998800" cy="40737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5"/>
          <p:cNvSpPr/>
          <p:nvPr/>
        </p:nvSpPr>
        <p:spPr>
          <a:xfrm>
            <a:off x="267120" y="1217520"/>
            <a:ext cx="513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нові учні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, що мають проблеми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зі здоров’ям ті ,які носять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куляри, погано чують,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ють  зайву  вагу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, які добре  вчаться,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але фізично слабші за інших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 з більш низько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амооцінкою;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• діти з бідних сімей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Хто ображає найчастіше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 •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часто це діти, які самі зазнавали образ   вдома, в дитячому садочку чи в молодших класах;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діти з неблагополучних сімей;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діти, які хочуть себе показати, завоювати популярність в очах інших, будь-яким способом  привабити до себе увагу;</a:t>
            </a:r>
            <a:br>
              <a:rPr sz="3200"/>
            </a:b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• діти з середньою чи  низькою успішністю 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0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Що робити, якщо ти став жертвою шкільного насилля чи знаєш, що когось ображають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Разкажи про це дорослим – батькам, класному керівнику, директору школи, психолог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никайте місць, в яких можна стати жертвою шкільного насилля.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Ходи разом з друзями.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аднику важливо, щоб ти звернув на нього увагу, боявся його, то намагайся не помічати його ігноруй виклики у вашу адресу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3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3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3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850"/>
                            </p:stCondLst>
                            <p:childTnLst>
                              <p:par>
                                <p:cTn id="3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99"/>
                </a:solidFill>
                <a:latin typeface="Verdana"/>
              </a:rPr>
              <a:t>Правила які допоможуть запобігти насильству в сім’ї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Продумайте свої дії в тому випадку, якщо акт насильства вже відбувався і може повторитися знов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Розповідайте про насильство тим, кому ви довіряєте (друзям родичам)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Знайдіть таке місце ,куди ви змогли б піти у випадку небезпек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Підготуйте документи (паспорт,свідоцтво про народження, і т., д.) гроші та інші необхідні речі та покладіть їх в одне місце, так щоб у будь-який момент ви змогли б їх легко взяти і втекти з ним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Якщо ситуація критична, то залишайте будинок негайно, навіть якщо вам не вдалося взяти необхідні речі;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Verdana"/>
              </a:rPr>
              <a:t>Заздалегідь довідайтесь телефони та адреси місцевих служб , які зможуть надати необхідну підтримку (кризовий центр для жінок, соціальні служби, телефони довіри, телефон  дільничого  інспектора, служби у справах неповнолітніх)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47" name="Picture 5" descr="0488"/>
          <p:cNvPicPr/>
          <p:nvPr/>
        </p:nvPicPr>
        <p:blipFill>
          <a:blip r:embed="rId1"/>
          <a:stretch/>
        </p:blipFill>
        <p:spPr>
          <a:xfrm>
            <a:off x="7072200" y="5500800"/>
            <a:ext cx="1590840" cy="1158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Насильство- це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одноразова дія, а процес, що складається з циклів насильства, які тримаються на продовженні стосунків потерпілої та кривдника. Якщо насильство один раз з’явилось у стосунках, то є велика імовірність, що воно повториться, а інтенсивність його і ступінь жорстокості будуть зростати. Динаміка таких стосунків може бути проілюстрована так званою хвилею насильств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66"/>
                </a:solidFill>
                <a:latin typeface="Verdana"/>
              </a:rPr>
              <a:t>Правила, які допоможуть запобігти насильству на вулиці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400" y="1714680"/>
            <a:ext cx="8157960" cy="46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В пізній час не ходіть одні по вулиці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Знайте елементарні прийоми самооборони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Продумайте свої дії в тому випадку, якщо акт насильства можливий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Майте при собі один з засобів безпеки:  газовий балончик дезодорант, пилочку…. Та продумайте їх використання в разі здійснення акту насильства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Відчуваєте небезпеку – терміново тікайте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На вас напали – кричіть, біжіть, привертайте до себе уваг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Телефонуйте до міліції, швидкої 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Виключіть непорозуміння: будьте впевнені , що ваш знайомий друг знає межі дозволеного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Не впускайте в будинок незнайомців особливо, якщо ви почуваєте себе не спокійно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Не сідайте з незнайомцями до ліфту;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4" descr="Безымянный"/>
          <p:cNvPicPr/>
          <p:nvPr/>
        </p:nvPicPr>
        <p:blipFill>
          <a:blip r:embed="rId1"/>
          <a:stretch/>
        </p:blipFill>
        <p:spPr>
          <a:xfrm>
            <a:off x="6215040" y="4959360"/>
            <a:ext cx="1928880" cy="15606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460"/>
                            </p:stCondLst>
                            <p:childTnLst>
                              <p:par>
                                <p:cTn id="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346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4460"/>
                            </p:stCondLst>
                            <p:childTnLst>
                              <p:par>
                                <p:cTn id="4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96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46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646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Куди звертатись у випадку насильств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рм</a:t>
            </a: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і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ово телефонуйте 10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Звертайтесь до обласного центру соціальних служб для сім’ї, дітей та молоді - 37 15 64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Служба у справах неповнолітніх облдержадміністрації - 47 10 9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Жіночий інформаційно-консультативний центр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40 07 32, 40 07 33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Обласний гендерний ресурсний центр 46 13 61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Загальнонаціональна гаряча лінія центру “Ла Страда-Україна” з питань насильства (дзвінки безкоштовні) 8 800 500 33 5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99"/>
                </a:solidFill>
                <a:latin typeface="Verdana"/>
              </a:rPr>
              <a:t>Всеукраїнська дитяча лінія “Телефон довіри” (дзвінки безкоштовні)   500 21 80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4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7650"/>
                            </p:stCondLst>
                            <p:childTnLst>
                              <p:par>
                                <p:cTn id="4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250"/>
                            </p:stCondLst>
                            <p:childTnLst>
                              <p:par>
                                <p:cTn id="5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850"/>
                            </p:stCondLst>
                            <p:childTnLst>
                              <p:par>
                                <p:cTn id="5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8650"/>
                            </p:stCondLst>
                            <p:childTnLst>
                              <p:par>
                                <p:cTn id="5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4700"/>
                            </p:stCondLst>
                            <p:childTnLst>
                              <p:par>
                                <p:cTn id="5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СТАТТІ КРИМІНАЛЬНОГО КОДЕКСУ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За цими статтями можна притягнути до кримінальної відповідальності особу, що вчинила насильст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15 Умисне вбивство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0 Доведення до самогубств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1 Умисне тяжке тілесне ушкодженн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5 Умисне легке тілесне ушкодження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6 Побої та мордування 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Стаття 129 Погроза вбивством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7" name="Picture 4" descr="imgmain"/>
          <p:cNvPicPr/>
          <p:nvPr/>
        </p:nvPicPr>
        <p:blipFill>
          <a:blip r:embed="rId1"/>
          <a:stretch/>
        </p:blipFill>
        <p:spPr>
          <a:xfrm>
            <a:off x="6643800" y="5143680"/>
            <a:ext cx="1950840" cy="1357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Як запобігти насильству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Не вчиняти насильство по відношенню до інших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Пам’ятати про відповідальність за свої дії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Пам’ятайте, ви гідні поваги, бо ви людин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Кожна людина має право на поваг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Інші люди, також заслуговують поваг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99"/>
                </a:solidFill>
                <a:latin typeface="Verdana"/>
              </a:rPr>
              <a:t>Навчіться конструктивно розв’язувати конфлікт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Що таке насильств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сильство ставить людину у залежн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і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ь, а також наносить шкоду суспільству і є серйозною перешкодою на шляху до подолання нерівності дотримання прав люд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Orgprest"/>
          <p:cNvPicPr/>
          <p:nvPr/>
        </p:nvPicPr>
        <p:blipFill>
          <a:blip r:embed="rId1"/>
          <a:stretch/>
        </p:blipFill>
        <p:spPr>
          <a:xfrm>
            <a:off x="5500800" y="3978360"/>
            <a:ext cx="2714400" cy="2528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3600" y="185760"/>
            <a:ext cx="8091720" cy="74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Насильство це….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Будь-які навмисні дії, фізичного, сексуального, психологічного чи економічного спрямування одної людини по відношенню до іншої, які порушують її конституційні права й свободи і наносять їй моральну шкоду, шкоду її фізичному чи психічному здоров’ю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209160"/>
            <a:ext cx="79722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Види </a:t>
            </a:r>
            <a:r>
              <a:rPr b="0" lang="uk-UA" sz="4800" spc="-1" strike="noStrike">
                <a:solidFill>
                  <a:srgbClr val="ffff99"/>
                </a:solidFill>
                <a:latin typeface="Verdana"/>
              </a:rPr>
              <a:t>насильства</a:t>
            </a:r>
            <a:r>
              <a:rPr b="0" lang="uk-UA" sz="4400" spc="-1" strike="noStrike">
                <a:solidFill>
                  <a:srgbClr val="ffff99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Arial Rounded MT Bold"/>
              </a:rPr>
              <a:t>Емоційне або психологічне 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тиск на психіку іншої людини, який проявляється у нанесенні словесних образ, погроз, залякуванні, переслідуванні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4" descr="showimage"/>
          <p:cNvPicPr/>
          <p:nvPr/>
        </p:nvPicPr>
        <p:blipFill>
          <a:blip r:embed="rId1"/>
          <a:stretch/>
        </p:blipFill>
        <p:spPr>
          <a:xfrm>
            <a:off x="7215120" y="4143240"/>
            <a:ext cx="1674720" cy="2525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0c0c0"/>
                </a:solidFill>
                <a:latin typeface="Verdana"/>
              </a:rPr>
              <a:t>   </a:t>
            </a:r>
            <a:r>
              <a:rPr b="0" lang="uk-UA" sz="4000" spc="-1" strike="noStrike">
                <a:solidFill>
                  <a:srgbClr val="c0c0c0"/>
                </a:solidFill>
                <a:latin typeface="Verdana"/>
              </a:rPr>
              <a:t>А саме…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6786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Ігнорування твоїх почуттів і потреб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Verdana"/>
              </a:rPr>
              <a:t>Брудна лайка, залякування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огрози кинути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Безпідставні покарання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Контролювання доступу до однолітків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огрози завдати шкоди близькій людині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несення шкоди твоїй домашній тварині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ищення особистих рече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Навіювання почуття провини і страху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Брехня, звинувачення, приниження, прізвиськ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-119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Verdana"/>
              </a:rPr>
              <a:t>Поводження з тобою як з слугою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5" name="Picture 4" descr="20070523204231_7-Nasilie"/>
          <p:cNvPicPr/>
          <p:nvPr/>
        </p:nvPicPr>
        <p:blipFill>
          <a:blip r:embed="rId1"/>
          <a:stretch/>
        </p:blipFill>
        <p:spPr>
          <a:xfrm>
            <a:off x="6929280" y="333360"/>
            <a:ext cx="1924200" cy="2549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1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6666"/>
                </a:solidFill>
                <a:latin typeface="Verdana"/>
              </a:rPr>
              <a:t>Фізичне насильство- це…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Нанесення тілесних ушкоджень,які завдають болю, призводять до порушень психічного та фізичного здоров’я, чи навіть смерті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Це штовхання і смиканн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Щипки, удари, стусани, побиття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Знущання, викручування рук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Жбурляння предметів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99"/>
                </a:solidFill>
                <a:latin typeface="Verdana"/>
              </a:rPr>
              <a:t>Спроби задушити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8" name="Picture 4" descr="strah"/>
          <p:cNvPicPr/>
          <p:nvPr/>
        </p:nvPicPr>
        <p:blipFill>
          <a:blip r:embed="rId1"/>
          <a:stretch/>
        </p:blipFill>
        <p:spPr>
          <a:xfrm>
            <a:off x="7000920" y="4857840"/>
            <a:ext cx="1881000" cy="18129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autoRev="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4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398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1898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398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898"/>
                            </p:stCondLst>
                            <p:childTnLst>
                              <p:par>
                                <p:cTn id="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398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898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85280" y="102960"/>
            <a:ext cx="820116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ddddd"/>
                </a:solidFill>
                <a:latin typeface="Verdana"/>
              </a:rPr>
              <a:t>Економ</a:t>
            </a:r>
            <a:r>
              <a:rPr b="0" lang="uk-UA" sz="4400" spc="-1" strike="noStrike">
                <a:solidFill>
                  <a:srgbClr val="dddddd"/>
                </a:solidFill>
                <a:latin typeface="Verdana"/>
              </a:rPr>
              <a:t>ічне насильство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зумисне позбавлення людини права на житло, їжу, одяг, кошти та інше майно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Це створення економічної залежності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Забирання грошей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Маніпулювання їжею, одягом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відоме руйнування майна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newsflash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0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8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0c0c0"/>
                </a:solidFill>
                <a:latin typeface="Verdana"/>
              </a:rPr>
              <a:t>Сексуальне насильство…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Це зазіхання на статеву недоторканість особи, а також дії сексуального характеру по відношенню до неповнолітнього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бажані сексуальні дотик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Домагання, згвалтування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природні сексуальні дії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Примус до проституції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Verdana"/>
              </a:rPr>
              <a:t>Небажання застосовувати контрацепцію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3" name="Picture 4" descr="110"/>
          <p:cNvPicPr/>
          <p:nvPr/>
        </p:nvPicPr>
        <p:blipFill>
          <a:blip r:embed="rId1"/>
          <a:stretch/>
        </p:blipFill>
        <p:spPr>
          <a:xfrm>
            <a:off x="6723000" y="3227400"/>
            <a:ext cx="2151000" cy="1558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6666"/>
                </a:solidFill>
                <a:latin typeface="Verdana"/>
              </a:rPr>
              <a:t>Ш</a:t>
            </a: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кільне насильство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85960" y="999720"/>
            <a:ext cx="7128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це те, що стосується твого однокласника  або  учня твоєї школи: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приставання, знущанн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забирання речей, їх               псування і забрудненн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ігнорування, розповсюдження пліток і наклепів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погроза насильством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побиття;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• вилучення грошей, реч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6" name="Picture 4" descr="3992213f248a27e174d44e000fd0a3c5"/>
          <p:cNvPicPr/>
          <p:nvPr/>
        </p:nvPicPr>
        <p:blipFill>
          <a:blip r:embed="rId1"/>
          <a:stretch/>
        </p:blipFill>
        <p:spPr>
          <a:xfrm>
            <a:off x="179280" y="2049480"/>
            <a:ext cx="3035520" cy="3951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51:20Z</dcterms:created>
  <dc:creator>Гость</dc:creator>
  <dc:description/>
  <dc:language>en-US</dc:language>
  <cp:lastModifiedBy>Денис</cp:lastModifiedBy>
  <dcterms:modified xsi:type="dcterms:W3CDTF">2021-03-11T20:40:01Z</dcterms:modified>
  <cp:revision>31</cp:revision>
  <dc:subject/>
  <dc:title>Що таке насильство?</dc:title>
</cp:coreProperties>
</file>