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C1D-C16C-487F-9ED5-0E6E6AC5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8DF-7521-4084-B552-CED92CA8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FC9-1C4F-4FA1-ADE7-CBF25DC4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974-03D6-4DF2-A3F0-8CBABBDF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F215-06E5-41A3-AEB7-A1BA4A1F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3DA5-1823-4FB6-A826-AA51BD76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F9DA-CF00-46BA-8695-6F744367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A53A-5933-465D-A7D4-5943C75E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BAB6-1592-4BE7-98D3-8E2DF0A6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30D9-72D9-4C1E-9535-56CE31ED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56EA-AB53-4C03-88E5-13D8723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09E-8D55-4F20-865A-BBDBDE91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95DF-254A-4026-8F0D-F6A1FF1E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E5AC-D4FD-4ADD-A95F-8698913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FD85-D9A1-40D2-B49F-E078435B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7A25-F36A-425F-B45A-10C162A6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2012-B302-4739-A89F-0D26F50A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D676-D4DC-40CF-BB16-739CC415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CA02-6538-48A6-8B47-63BFC75A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ED54-6571-49FE-8C4B-8461F1F1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439A-736E-4AD2-AF78-D2B89F92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2C5C9-397A-4F90-9CE7-EC7AE30E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F0E-3E14-4B47-ACA6-D677FFD8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E730-8CE2-4535-A680-203BFECC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6CB9-92CC-45CB-94D6-6721EF9E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A841-CD7B-48C2-8C14-8AA9FCE4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3BED-BD04-4DAA-8B0C-009AD239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64A0-7B15-411D-9518-D28C7CD1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722FB-7182-4CEB-B6CC-361ABBE0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3961-9959-4F62-9DF0-7750D9E9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B36-F135-473C-B851-9FD405FD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9FC-B4C6-456B-80F8-163D715A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14D-F16C-40B4-AC64-546B1CBF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9B0-1B35-443F-8ED4-9D39912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2B6-B97B-4C79-8F24-52CA63C8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491-C012-46DD-ACAC-842D2014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1C8D-0810-4C61-9F8A-791EA679348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5B17-BE64-4AA2-ABE5-8A1F328571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480" cy="6858000"/>
            <a:chOff x="-20160" y="0"/>
            <a:chExt cx="905148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8640" y="60840"/>
              <a:ext cx="3622680" cy="6131160"/>
              <a:chOff x="5408640" y="60840"/>
              <a:chExt cx="3622680" cy="613116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6320"/>
                <a:ext cx="2116080" cy="23562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120" y="19580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5240" y="2590560"/>
                <a:ext cx="43992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0400" y="6728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3920" y="264492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39880" y="124272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92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50800" y="1033200"/>
              <a:ext cx="1015560" cy="1262520"/>
              <a:chOff x="4150800" y="1033200"/>
              <a:chExt cx="1015560" cy="126252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516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5012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1084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60640" y="307800"/>
              <a:ext cx="888480" cy="833400"/>
              <a:chOff x="5660640" y="307800"/>
              <a:chExt cx="888480" cy="83340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72960" y="811080"/>
                <a:ext cx="17712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20760" y="485640"/>
                <a:ext cx="3027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61480" y="406800"/>
                <a:ext cx="31680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71280" y="5266800"/>
              <a:ext cx="1058040" cy="833400"/>
              <a:chOff x="971280" y="5266800"/>
              <a:chExt cx="1058040" cy="8334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2880" y="5530680"/>
                <a:ext cx="25092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8440" y="5745600"/>
                <a:ext cx="42984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2280" y="539136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49640"/>
              <a:ext cx="1690560" cy="1146600"/>
              <a:chOff x="375840" y="449640"/>
              <a:chExt cx="169056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440" y="10681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3120" y="5932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736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80720" y="3712320"/>
              <a:ext cx="1156320" cy="1607760"/>
              <a:chOff x="7380720" y="3712320"/>
              <a:chExt cx="115632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61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90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8327-4ED8-4D61-84B6-5D337CE715A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1213920"/>
            <a:ext cx="7772400" cy="16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Насильство та його вид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29040" y="3644640"/>
            <a:ext cx="52149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showimage"/>
          <p:cNvPicPr/>
          <p:nvPr/>
        </p:nvPicPr>
        <p:blipFill>
          <a:blip r:embed="rId1"/>
          <a:stretch/>
        </p:blipFill>
        <p:spPr>
          <a:xfrm>
            <a:off x="6715080" y="2357280"/>
            <a:ext cx="1897200" cy="2859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20070523204231_7-Nasilie"/>
          <p:cNvPicPr/>
          <p:nvPr/>
        </p:nvPicPr>
        <p:blipFill>
          <a:blip r:embed="rId2"/>
          <a:stretch/>
        </p:blipFill>
        <p:spPr>
          <a:xfrm>
            <a:off x="285840" y="4071960"/>
            <a:ext cx="1904760" cy="2523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strah"/>
          <p:cNvPicPr/>
          <p:nvPr/>
        </p:nvPicPr>
        <p:blipFill>
          <a:blip r:embed="rId3"/>
          <a:stretch/>
        </p:blipFill>
        <p:spPr>
          <a:xfrm>
            <a:off x="142920" y="2286000"/>
            <a:ext cx="2084400" cy="2009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110"/>
          <p:cNvPicPr/>
          <p:nvPr/>
        </p:nvPicPr>
        <p:blipFill>
          <a:blip r:embed="rId4"/>
          <a:stretch/>
        </p:blipFill>
        <p:spPr>
          <a:xfrm>
            <a:off x="4572000" y="4886280"/>
            <a:ext cx="2428920" cy="1760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3992213f248a27e174d44e000fd0a3c5"/>
          <p:cNvPicPr/>
          <p:nvPr/>
        </p:nvPicPr>
        <p:blipFill>
          <a:blip r:embed="rId5"/>
          <a:stretch/>
        </p:blipFill>
        <p:spPr>
          <a:xfrm>
            <a:off x="2500200" y="2428920"/>
            <a:ext cx="2178000" cy="283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Хто найчастіше є жертвою шкільного насилля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Picture 4" descr="c4010d579c"/>
          <p:cNvPicPr/>
          <p:nvPr/>
        </p:nvPicPr>
        <p:blipFill>
          <a:blip r:embed="rId1"/>
          <a:srcRect l="0" t="0" r="0" b="9179"/>
          <a:stretch/>
        </p:blipFill>
        <p:spPr>
          <a:xfrm>
            <a:off x="5664240" y="2643120"/>
            <a:ext cx="2998800" cy="40737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267120" y="1217520"/>
            <a:ext cx="513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ові учні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, що мають проблеми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зі здоров’ям ті ,які носять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куляри, погано чують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ють  зайву  вагу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, які добре  вчаться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але фізично слабші за інших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 з більш низько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амооцінкою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 з бідних сіме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Хто ображає найчастіше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асто це діти, які самі зазнавали образ   вдома, в дитячому садочку чи в молодших класах;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діти з неблагополучних сімей;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діти, які хочуть себе показати, завоювати популярність в очах інших, будь-яким способом  привабити до себе увагу;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діти з середньою чи  низькою успішністю 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Що робити, якщо ти став жертвою шкільного насилля чи знаєш, що когось ображають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зкажи про це дорослим – батькам, класному керівнику, директору школи, психолог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никайте місць, в яких можна стати жертвою шкільного насилля.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Ходи разом з друзями.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аднику важливо, щоб ти звернув на нього увагу, боявся його, то намагайся не помічати його ігноруй виклики у вашу адрес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3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3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3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850"/>
                            </p:stCondLst>
                            <p:childTnLst>
                              <p:par>
                                <p:cTn id="3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Verdana"/>
              </a:rPr>
              <a:t>Правила які допоможуть запобігти насильству в сім’ї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Продумайте свої дії в тому випадку, якщо акт насильства вже відбувався і може повторитися знов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Розповідайте про насильство тим, кому ви довіряєте (друзям родичам)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Знайдіть таке місце ,куди ви змогли б піти у випадку небезпек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Підготуйте документи (паспорт,свідоцтво про народження, і т., д.) гроші та інші необхідні речі та покладіть їх в одне місце, так щоб у будь-який момент ви змогли б їх легко взяти і втекти з ним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Якщо ситуація критична, то залишайте будинок негайно, навіть якщо вам не вдалося взяти необхідні речі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Заздалегідь довідайтесь телефони та адреси місцевих служб , які зможуть надати необхідну підтримку (кризовий центр для жінок, соціальні служби, телефони довіри, телефон  дільничого  інспектора, служби у справах неповнолітніх)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7" name="Picture 5" descr="0488"/>
          <p:cNvPicPr/>
          <p:nvPr/>
        </p:nvPicPr>
        <p:blipFill>
          <a:blip r:embed="rId1"/>
          <a:stretch/>
        </p:blipFill>
        <p:spPr>
          <a:xfrm>
            <a:off x="7072200" y="5500800"/>
            <a:ext cx="1590840" cy="1158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Насильство- це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одноразова дія, а процес, що складається з циклів насильства, які тримаються на продовженні стосунків потерпілої та кривдника. Якщо насильство один раз з’явилось у стосунках, то є велика імовірність, що воно повториться, а інтенсивність його і ступінь жорстокості будуть зростати. Динаміка таких стосунків може бути проілюстрована так званою хвилею насильства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66"/>
                </a:solidFill>
                <a:latin typeface="Verdana"/>
              </a:rPr>
              <a:t>Правила, які допоможуть запобігти насильству на вулиці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00" y="1714680"/>
            <a:ext cx="815796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В пізній час не ходіть одні по вулиці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Знайте елементарні прийоми самооборон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Продумайте свої дії в тому випадку, якщо акт насильства можливи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Майте при собі один з засобів безпеки:  газовий балончик дезодорант, пилочку…. Та продумайте їх використання в разі здійснення акту насильства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Відчуваєте небезпеку – терміново тікайте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На вас напали – кричіть, біжіть, привертайте до себе уваг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Телефонуйте до міліції, швидкої 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Виключіть непорозуміння: будьте впевнені , що ваш знайомий друг знає межі дозволеного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Не впускайте в будинок незнайомців особливо, якщо ви почуваєте себе не спокійно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Не сідайте з незнайомцями до ліфт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4" descr="Безымянный"/>
          <p:cNvPicPr/>
          <p:nvPr/>
        </p:nvPicPr>
        <p:blipFill>
          <a:blip r:embed="rId1"/>
          <a:stretch/>
        </p:blipFill>
        <p:spPr>
          <a:xfrm>
            <a:off x="6215040" y="4959360"/>
            <a:ext cx="1928880" cy="1560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46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46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46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646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Куди звертатись у випадку насильств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рм</a:t>
            </a: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і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ово телефонуйте 10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Звертайтесь до обласного центру соціальних служб для сім’ї, дітей та молоді - 37 15 64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Служба у справах неповнолітніх облдержадміністрації - 47 10 9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Жіночий інформаційно-консультативний центр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40 07 32, 40 07 33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Обласний гендерний ресурсний центр 46 13 6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Загальнонаціональна гаряча лінія центру “Ла Страда-Україна” з питань насильства (дзвінки безкоштовні) 8 800 500 33 5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Всеукраїнська дитяча лінія “Телефон довіри” (дзвінки безкоштовні)   500 21 8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4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4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5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850"/>
                            </p:stCondLst>
                            <p:childTnLst>
                              <p:par>
                                <p:cTn id="5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8650"/>
                            </p:stCondLst>
                            <p:childTnLst>
                              <p:par>
                                <p:cTn id="5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4700"/>
                            </p:stCondLst>
                            <p:childTnLst>
                              <p:par>
                                <p:cTn id="5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СТАТТІ КРИМІНАЛЬНОГО КОДЕКСУ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За цими статтями можна притягнути до кримінальної відповідальності особу, що вчинила насильств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15 Умисне вбивств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0 Доведення до самогубств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1 Умисне тяжке тілесне ушкодженн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5 Умисне легке тілесне ушкодженн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6 Побої та мордування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9 Погроза вбивств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7" name="Picture 4" descr="imgmain"/>
          <p:cNvPicPr/>
          <p:nvPr/>
        </p:nvPicPr>
        <p:blipFill>
          <a:blip r:embed="rId1"/>
          <a:stretch/>
        </p:blipFill>
        <p:spPr>
          <a:xfrm>
            <a:off x="6643800" y="5143680"/>
            <a:ext cx="1950840" cy="1357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Як запобігти насильству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Не вчиняти насильство по відношенню до інши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Пам’ятати про відповідальність за свої дії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Пам’ятайте, ви гідні поваги, бо ви люди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Кожна людина має право на поваг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Інші люди, також заслуговують поваг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Навчіться конструктивно розв’язувати конфлікт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Що таке насильств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сильство ставить людину у залежн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ь, а також наносить шкоду суспільству і є серйозною перешкодою на шляху до подолання нерівності дотримання прав люд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Orgprest"/>
          <p:cNvPicPr/>
          <p:nvPr/>
        </p:nvPicPr>
        <p:blipFill>
          <a:blip r:embed="rId1"/>
          <a:stretch/>
        </p:blipFill>
        <p:spPr>
          <a:xfrm>
            <a:off x="5500800" y="3978360"/>
            <a:ext cx="2714400" cy="2528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3600" y="185760"/>
            <a:ext cx="8091720" cy="74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Насильство це…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-які навмисні дії, фізичного, сексуального, психологічного чи економічного спрямування одної людини по відношенню до іншої, які порушують її конституційні права й свободи і наносять їй моральну шкоду, шкоду її фізичному чи психічному здоров’ю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09160"/>
            <a:ext cx="79722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Види </a:t>
            </a:r>
            <a:r>
              <a:rPr b="0" lang="uk-UA" sz="4800" spc="-1" strike="noStrike">
                <a:solidFill>
                  <a:srgbClr val="ffff99"/>
                </a:solidFill>
                <a:latin typeface="Verdana"/>
              </a:rPr>
              <a:t>насильства</a:t>
            </a: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 Rounded MT Bold"/>
              </a:rPr>
              <a:t>Емоційне або психологічне 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тиск на психіку іншої людини, який проявляється у нанесенні словесних образ, погроз, залякуванні, переслідуванні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4" descr="showimage"/>
          <p:cNvPicPr/>
          <p:nvPr/>
        </p:nvPicPr>
        <p:blipFill>
          <a:blip r:embed="rId1"/>
          <a:stretch/>
        </p:blipFill>
        <p:spPr>
          <a:xfrm>
            <a:off x="7215120" y="4143240"/>
            <a:ext cx="1674720" cy="2525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c0c0"/>
                </a:solidFill>
                <a:latin typeface="Verdana"/>
              </a:rPr>
              <a:t>   </a:t>
            </a:r>
            <a:r>
              <a:rPr b="0" lang="uk-UA" sz="4000" spc="-1" strike="noStrike">
                <a:solidFill>
                  <a:srgbClr val="c0c0c0"/>
                </a:solidFill>
                <a:latin typeface="Verdana"/>
              </a:rPr>
              <a:t>А саме…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6786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Ігнорування твоїх почуттів і потреб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Брудна лайка, залякування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огрози кинут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Безпідставні покаранн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Контролювання доступу до однолітків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огрози завдати шкоди близькій людині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несення шкоди твоїй домашній тварині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ищення особистих рече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віювання почуття провини і страху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Брехня, звинувачення, приниження, прізвиськ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оводження з тобою як з слуго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5" name="Picture 4" descr="20070523204231_7-Nasilie"/>
          <p:cNvPicPr/>
          <p:nvPr/>
        </p:nvPicPr>
        <p:blipFill>
          <a:blip r:embed="rId1"/>
          <a:stretch/>
        </p:blipFill>
        <p:spPr>
          <a:xfrm>
            <a:off x="6929280" y="333360"/>
            <a:ext cx="1924200" cy="2549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Фізичне насильство- це…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Нанесення тілесних ушкоджень,які завдають болю, призводять до порушень психічного та фізичного здоров’я, чи навіть смерті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Це штовхання і смиканн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Щипки, удари, стусани, побитт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Знущання, викручування рук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Жбурляння предметі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Спроби задушит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Picture 4" descr="strah"/>
          <p:cNvPicPr/>
          <p:nvPr/>
        </p:nvPicPr>
        <p:blipFill>
          <a:blip r:embed="rId1"/>
          <a:stretch/>
        </p:blipFill>
        <p:spPr>
          <a:xfrm>
            <a:off x="7000920" y="4857840"/>
            <a:ext cx="1881000" cy="1812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autoRev="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398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898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398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898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398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898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85280" y="102960"/>
            <a:ext cx="820116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dddd"/>
                </a:solidFill>
                <a:latin typeface="Verdana"/>
              </a:rPr>
              <a:t>Економ</a:t>
            </a:r>
            <a:r>
              <a:rPr b="0" lang="uk-UA" sz="4400" spc="-1" strike="noStrike">
                <a:solidFill>
                  <a:srgbClr val="dddddd"/>
                </a:solidFill>
                <a:latin typeface="Verdana"/>
              </a:rPr>
              <a:t>ічне насильств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зумисне позбавлення людини права на житло, їжу, одяг, кошти та інше майно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створення економічної залежності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ирання грошей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ніпулювання їжею, одяго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доме руйнування майн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c0c0"/>
                </a:solidFill>
                <a:latin typeface="Verdana"/>
              </a:rPr>
              <a:t>Сексуальне насильство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Це зазіхання на статеву недоторканість особи, а також дії сексуального характеру по відношенню до неповнолітнього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бажані сексуальні дотик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омагання, згвалтуванн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природні сексуальні дії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мус до проституції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бажання застосовувати контрацепці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4" descr="110"/>
          <p:cNvPicPr/>
          <p:nvPr/>
        </p:nvPicPr>
        <p:blipFill>
          <a:blip r:embed="rId1"/>
          <a:stretch/>
        </p:blipFill>
        <p:spPr>
          <a:xfrm>
            <a:off x="6723000" y="3227400"/>
            <a:ext cx="2151000" cy="155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Verdana"/>
              </a:rPr>
              <a:t>Ш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кільне насильство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85960" y="999720"/>
            <a:ext cx="7128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це те, що стосується твого однокласника  або  учня твоєї школи: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приставання, знущання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забирання речей, їх               псування і забруднення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ігнорування, розповсюдження пліток і наклепів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погроза насильством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побиття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вилучення грошей, реч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Picture 4" descr="3992213f248a27e174d44e000fd0a3c5"/>
          <p:cNvPicPr/>
          <p:nvPr/>
        </p:nvPicPr>
        <p:blipFill>
          <a:blip r:embed="rId1"/>
          <a:stretch/>
        </p:blipFill>
        <p:spPr>
          <a:xfrm>
            <a:off x="179280" y="2049480"/>
            <a:ext cx="3035520" cy="395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51:20Z</dcterms:created>
  <dc:creator>Гость</dc:creator>
  <dc:description/>
  <dc:language>en-US</dc:language>
  <cp:lastModifiedBy>Денис</cp:lastModifiedBy>
  <dcterms:modified xsi:type="dcterms:W3CDTF">2021-03-11T20:40:01Z</dcterms:modified>
  <cp:revision>31</cp:revision>
  <dc:subject/>
  <dc:title>Що таке насильство?</dc:title>
</cp:coreProperties>
</file>